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83440"/>
        <c:axId val="14947451"/>
      </c:barChart>
      <c:catAx>
        <c:axId val="18083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47451"/>
        <c:crosses val="autoZero"/>
        <c:auto val="1"/>
        <c:lblAlgn val="ctr"/>
        <c:lblOffset val="100"/>
        <c:noMultiLvlLbl val="0"/>
      </c:catAx>
      <c:valAx>
        <c:axId val="14947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83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6EC-CC22-4A0F-85E8-831608E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A03-0C9D-42BF-ACAD-61586759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313-48DB-4F07-8BC9-346FDA5B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5CD-B044-41A9-8042-631D7753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3C0-EA20-44BE-9668-717802C1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593-F975-46EF-8599-97FB7CA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426-35C0-440F-BF48-70845BB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5FE-40F9-4F67-9488-8143D5C5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FA9-AC64-4D05-8043-CDF2C950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F51-0A33-4581-BBFC-6368F85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1E1-BCDC-4290-B399-03225ED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F97-2BCC-4676-B142-55890F1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5461-C68D-42A6-AF2C-30456AE60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