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A0AF-1EF4-40E7-97C0-F110CAF55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84BF-AF7F-492C-8919-FEE6F233A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05CB-611B-4E91-B388-6FC5267F1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1E5B-BEF9-47EF-AD14-BF057EFF5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D662-0ED5-4070-965B-6DD62150B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50BB-D2AE-4AC2-A731-65F464557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77A8-0FC0-4528-A0DD-2FFA49E74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DDD8-5C22-4626-99CF-39D28E542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2003-FB83-47F5-B45B-979979AEE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CF9D-E659-4F0F-9C60-210BA8A19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DD81-E1EF-49C8-B42C-64A0D829E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CE03-D557-42BD-813C-964DA594D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61115-C8AB-4049-96C1-95634A7EA9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モジュール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105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27280" y="83664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cmn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105264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40000" y="148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268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dlg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40000" y="1844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27280" y="1700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file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40000" y="2276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7280" y="2133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set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40000" y="2781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27280" y="256536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tek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92280"/>
            <a:ext cx="3743280" cy="2376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036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20606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67280" y="98100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6922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67280" y="112536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56000" y="1268280"/>
            <a:ext cx="1295640" cy="432000"/>
          </a:xfrm>
          <a:prstGeom prst="wedgeRoundRectCallout">
            <a:avLst>
              <a:gd name="adj1" fmla="val -13601"/>
              <a:gd name="adj2" fmla="val -78675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によ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プロセス間通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720" y="2421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term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812000" y="2205000"/>
            <a:ext cx="1081080" cy="94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yg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/dev/ptm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256536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2276640"/>
            <a:ext cx="122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80000" y="1844640"/>
            <a:ext cx="1295640" cy="432000"/>
          </a:xfrm>
          <a:prstGeom prst="wedgeRoundRectCallout">
            <a:avLst>
              <a:gd name="adj1" fmla="val -14703"/>
              <a:gd name="adj2" fmla="val 80513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al port200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番で待ち受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20000" y="2637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270828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3860640"/>
            <a:ext cx="122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6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Proxy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kanjimenu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3141720"/>
            <a:ext cx="289080" cy="647640"/>
          </a:xfrm>
          <a:prstGeom prst="upArrow">
            <a:avLst>
              <a:gd name="adj1" fmla="val 50000"/>
              <a:gd name="adj2" fmla="val 56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9564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6400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42920" y="436572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起動時にダイナミックローディン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keycode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32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menu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08720" y="314172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launch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156360" y="2852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19640" y="4292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32720" y="4508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08720" y="429264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c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20000" y="4508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20000" y="486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472428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runl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20000" y="5300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08720" y="515772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LEdi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3:46:57Z</dcterms:modified>
  <cp:revision>65</cp:revision>
  <dc:subject/>
  <dc:title>TeraTermモジュール構成</dc:title>
</cp:coreProperties>
</file>