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AC5C-9EAF-4CAC-B0A8-1A0392C09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5F69-5B8C-4A5F-AE54-04C61ECD1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6A08-995D-4F14-BC03-630336BF3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ADC4-6B85-4750-98FA-8749F5593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639F-B7E1-44C4-A84E-0A7A7298E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F61F-61A7-412C-A7AD-E7A5F62D9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C7BD-1685-423D-8B55-4063906EC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2EA7-C9DC-46AA-96C8-A30FF7998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AB99-BE72-4DF6-913F-11328B789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92C9-3F96-4126-9573-CB390997E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27D3-73D2-4365-8FB8-D3D3D8CF0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4868-6576-442D-8154-CA101AC5B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D2853-ED85-45D2-A03E-45D36DC120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モジュール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10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83664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cmn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105264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0000" y="148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268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dlg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184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27280" y="1700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file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22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2133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set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2781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27280" y="256536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tek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92280"/>
            <a:ext cx="3743280" cy="237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060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981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692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112536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1268280"/>
            <a:ext cx="1295640" cy="432000"/>
          </a:xfrm>
          <a:prstGeom prst="wedgeRoundRectCallout">
            <a:avLst>
              <a:gd name="adj1" fmla="val -13601"/>
              <a:gd name="adj2" fmla="val -78675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によ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プロセス間通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2421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term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12000" y="2205000"/>
            <a:ext cx="1081080" cy="94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yg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dev/ptm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256536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27664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1844640"/>
            <a:ext cx="1295640" cy="432000"/>
          </a:xfrm>
          <a:prstGeom prst="wedgeRoundRectCallout">
            <a:avLst>
              <a:gd name="adj1" fmla="val -14703"/>
              <a:gd name="adj2" fmla="val 80513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l port2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番で待ち受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2637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270828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860640"/>
            <a:ext cx="122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Proxy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kanjimenu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3141720"/>
            <a:ext cx="289080" cy="647640"/>
          </a:xfrm>
          <a:prstGeom prst="upArrow">
            <a:avLst>
              <a:gd name="adj1" fmla="val 50000"/>
              <a:gd name="adj2" fmla="val 56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9564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43657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起動時にダイナミックローディン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ycode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menu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314172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launch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156360" y="2852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19640" y="4292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32720" y="4508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08720" y="429264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c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20000" y="450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20000" y="486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472428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unl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20000" y="530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515772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LEdi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3:46:57Z</dcterms:modified>
  <cp:revision>65</cp:revision>
  <dc:subject/>
  <dc:title>TeraTermモジュール構成</dc:title>
</cp:coreProperties>
</file>