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A92-9AE9-49F7-A350-C2310261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16C-D258-4381-84CE-248EBD40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67F-F1DF-408B-B25C-39E396F0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4C4-BE2C-42A1-AC46-C2CA0F7E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201-F38D-4207-ADF4-EAA2310A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0EF-D7F2-4558-B2A9-7E5D78FD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3D9-36B7-446B-9196-37AC39D7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E24-5158-40E1-ACE5-630D5FB8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2A9-E47E-4171-8DC2-36961D51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5CF-E836-4496-8F4C-33F94282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D4E-A9A3-4CD8-B388-6767A3E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2D3-938F-4A73-B4FA-6FECFA53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8217-9742-4AF1-B4E3-DEFDAB59C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027080"/>
            <a:ext cx="8303400" cy="4763880"/>
            <a:chOff x="457200" y="1027080"/>
            <a:chExt cx="8303400" cy="4763880"/>
          </a:xfrm>
        </p:grpSpPr>
        <p:sp>
          <p:nvSpPr>
            <p:cNvPr id="43" name=""/>
            <p:cNvSpPr/>
            <p:nvPr/>
          </p:nvSpPr>
          <p:spPr>
            <a:xfrm>
              <a:off x="3304800" y="5180040"/>
              <a:ext cx="5455800" cy="610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>
              <a:stCxn id="45" idx="2"/>
              <a:endCxn id="46" idx="1"/>
            </p:cNvCxnSpPr>
            <p:nvPr/>
          </p:nvCxnSpPr>
          <p:spPr>
            <a:xfrm flipH="1" rot="16200000">
              <a:off x="2306880" y="1401480"/>
              <a:ext cx="334800" cy="166176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7" name=""/>
            <p:cNvSpPr/>
            <p:nvPr/>
          </p:nvSpPr>
          <p:spPr>
            <a:xfrm>
              <a:off x="3304800" y="4332240"/>
              <a:ext cx="5455800" cy="610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4800" y="2806920"/>
              <a:ext cx="5455800" cy="1423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Graphics IO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-level format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CGM, EMF, PDF and SW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04800" y="2094840"/>
              <a:ext cx="5455800" cy="610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 VectorGraph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" y="1027080"/>
              <a:ext cx="2372760" cy="10382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Dia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04800" y="1027080"/>
              <a:ext cx="5455800" cy="6102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Graphics2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20:03:58Z</dcterms:modified>
  <cp:revision>27</cp:revision>
  <dc:subject/>
  <dc:title>Slide 1</dc:title>
</cp:coreProperties>
</file>