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38F5-0C22-40FA-948C-7D6F656DE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0DE9-3B07-4318-A09A-CDA00BF4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D65F-EDF8-4E35-9A71-EBC9C9F36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0D0E-11E3-4B49-83F6-712D60137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AB8E-DAB6-4003-A8E0-BB46F1BA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2D8E-FF24-4655-B41E-BB347A70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5AA0-84CD-4741-B58B-405C0E7F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152D-A09D-4604-92E1-22DDACF6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E835-CDCF-4B57-A053-01A32D86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8AC0-F757-479E-8BF3-AA3CEC3B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015F-4476-4315-818A-843F3A50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0D9E-7FB4-457F-92EE-34AE0E22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7997-6DFF-4BB6-A327-85150C2A8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44197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77240" y="4736160"/>
            <a:ext cx="1969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mageGraphic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5410080" cy="1523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5334120"/>
            <a:ext cx="685800" cy="91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44480" y="926280"/>
            <a:ext cx="1384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60160" y="1764360"/>
            <a:ext cx="1753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ector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83800" y="240480"/>
            <a:ext cx="1093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83480" y="926280"/>
            <a:ext cx="2780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ctorGraphicsCon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45800" y="2515320"/>
            <a:ext cx="2591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stractVector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7160" y="3582000"/>
            <a:ext cx="19958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xel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52680" y="3429000"/>
            <a:ext cx="5791320" cy="990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85280" y="4572720"/>
            <a:ext cx="2833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stractVectorGraphic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67080" y="5334120"/>
            <a:ext cx="4876920" cy="1523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04320" y="3898080"/>
            <a:ext cx="19958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ctorGraphic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4320" y="5944320"/>
            <a:ext cx="1845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F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02080" y="6096600"/>
            <a:ext cx="191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PG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62680" y="6260400"/>
            <a:ext cx="195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M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48480" y="6412680"/>
            <a:ext cx="195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NG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24640" y="5650560"/>
            <a:ext cx="19958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30960" y="5792040"/>
            <a:ext cx="19454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02720" y="5944320"/>
            <a:ext cx="191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44240" y="6085800"/>
            <a:ext cx="17672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45720" y="6249240"/>
            <a:ext cx="19454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VG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12080" y="6401520"/>
            <a:ext cx="19713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6" idx="0"/>
            <a:endCxn id="48" idx="2"/>
          </p:cNvCxnSpPr>
          <p:nvPr/>
        </p:nvCxnSpPr>
        <p:spPr>
          <a:xfrm flipV="1" rot="16200000">
            <a:off x="3974760" y="764280"/>
            <a:ext cx="317880" cy="6480"/>
          </a:xfrm>
          <a:prstGeom prst="bentConnector3">
            <a:avLst>
              <a:gd name="adj1" fmla="val 50113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7" name=""/>
          <p:cNvCxnSpPr>
            <a:stCxn id="47" idx="0"/>
            <a:endCxn id="46" idx="2"/>
          </p:cNvCxnSpPr>
          <p:nvPr/>
        </p:nvCxnSpPr>
        <p:spPr>
          <a:xfrm rot="16200000">
            <a:off x="3902040" y="1529280"/>
            <a:ext cx="47016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50" idx="0"/>
            <a:endCxn id="47" idx="2"/>
          </p:cNvCxnSpPr>
          <p:nvPr/>
        </p:nvCxnSpPr>
        <p:spPr>
          <a:xfrm flipV="1" rot="16200000">
            <a:off x="3947760" y="2321280"/>
            <a:ext cx="383040" cy="5040"/>
          </a:xfrm>
          <a:prstGeom prst="bentConnector3">
            <a:avLst>
              <a:gd name="adj1" fmla="val 5004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7" idx="0"/>
            <a:endCxn id="49" idx="2"/>
          </p:cNvCxnSpPr>
          <p:nvPr/>
        </p:nvCxnSpPr>
        <p:spPr>
          <a:xfrm flipH="1" flipV="1" rot="5400000">
            <a:off x="5470200" y="-39240"/>
            <a:ext cx="470160" cy="3137400"/>
          </a:xfrm>
          <a:prstGeom prst="bentConnector5">
            <a:avLst>
              <a:gd name="adj1" fmla="val 51111"/>
              <a:gd name="adj2" fmla="val 41817"/>
              <a:gd name="adj3" fmla="val 49042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70" name=""/>
          <p:cNvCxnSpPr>
            <a:stCxn id="51" idx="0"/>
            <a:endCxn id="50" idx="2"/>
          </p:cNvCxnSpPr>
          <p:nvPr/>
        </p:nvCxnSpPr>
        <p:spPr>
          <a:xfrm flipH="1" flipV="1" rot="5400000">
            <a:off x="2603880" y="2044800"/>
            <a:ext cx="698760" cy="2376720"/>
          </a:xfrm>
          <a:prstGeom prst="bentConnector3">
            <a:avLst>
              <a:gd name="adj1" fmla="val 5005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0" idx="2"/>
          </p:cNvCxnSpPr>
          <p:nvPr/>
        </p:nvCxnSpPr>
        <p:spPr>
          <a:xfrm flipV="1" rot="16200000">
            <a:off x="4314600" y="2710440"/>
            <a:ext cx="1014840" cy="1361160"/>
          </a:xfrm>
          <a:prstGeom prst="bentConnector3">
            <a:avLst>
              <a:gd name="adj1" fmla="val 50035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43" idx="0"/>
            <a:endCxn id="51" idx="2"/>
          </p:cNvCxnSpPr>
          <p:nvPr/>
        </p:nvCxnSpPr>
        <p:spPr>
          <a:xfrm flipH="1" flipV="1" rot="5400000">
            <a:off x="1370520" y="4341600"/>
            <a:ext cx="786240" cy="3240"/>
          </a:xfrm>
          <a:prstGeom prst="bentConnector3">
            <a:avLst>
              <a:gd name="adj1" fmla="val 5002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7" idx="0"/>
            <a:endCxn id="43" idx="2"/>
          </p:cNvCxnSpPr>
          <p:nvPr/>
        </p:nvCxnSpPr>
        <p:spPr>
          <a:xfrm flipH="1" flipV="1" rot="5400000">
            <a:off x="1265760" y="5600520"/>
            <a:ext cx="992520" cy="720"/>
          </a:xfrm>
          <a:prstGeom prst="bentConnector3">
            <a:avLst>
              <a:gd name="adj1" fmla="val 50036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53" idx="0"/>
            <a:endCxn id="55" idx="2"/>
          </p:cNvCxnSpPr>
          <p:nvPr/>
        </p:nvCxnSpPr>
        <p:spPr>
          <a:xfrm rot="16200000">
            <a:off x="5349240" y="4419360"/>
            <a:ext cx="30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61" idx="0"/>
            <a:endCxn id="53" idx="2"/>
          </p:cNvCxnSpPr>
          <p:nvPr/>
        </p:nvCxnSpPr>
        <p:spPr>
          <a:xfrm flipV="1" rot="16200000">
            <a:off x="5077440" y="5365800"/>
            <a:ext cx="851400" cy="1800"/>
          </a:xfrm>
          <a:prstGeom prst="bentConnector3">
            <a:avLst>
              <a:gd name="adj1" fmla="val 5004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6" name=""/>
          <p:cNvSpPr/>
          <p:nvPr/>
        </p:nvSpPr>
        <p:spPr>
          <a:xfrm>
            <a:off x="78840" y="763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aw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94720" y="533412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14640" y="342900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32200" y="9036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41360" y="3886920"/>
            <a:ext cx="22334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ultiPage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62" idx="0"/>
            <a:endCxn id="80" idx="2"/>
          </p:cNvCxnSpPr>
          <p:nvPr/>
        </p:nvCxnSpPr>
        <p:spPr>
          <a:xfrm flipH="1" flipV="1" rot="5400000">
            <a:off x="6165720" y="4251960"/>
            <a:ext cx="1689480" cy="1695960"/>
          </a:xfrm>
          <a:prstGeom prst="bentConnector3">
            <a:avLst>
              <a:gd name="adj1" fmla="val 5002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82" name=""/>
          <p:cNvCxnSpPr>
            <a:stCxn id="63" idx="0"/>
            <a:endCxn id="80" idx="2"/>
          </p:cNvCxnSpPr>
          <p:nvPr/>
        </p:nvCxnSpPr>
        <p:spPr>
          <a:xfrm flipH="1" flipV="1" rot="5400000">
            <a:off x="6377400" y="4605120"/>
            <a:ext cx="1830960" cy="11307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1:28:06Z</dcterms:created>
  <dc:creator>duns</dc:creator>
  <dc:description/>
  <dc:language>en-US</dc:language>
  <cp:lastModifiedBy>duns</cp:lastModifiedBy>
  <dcterms:modified xsi:type="dcterms:W3CDTF">2003-03-22T19:37:49Z</dcterms:modified>
  <cp:revision>28</cp:revision>
  <dc:subject/>
  <dc:title>Slide 1</dc:title>
</cp:coreProperties>
</file>