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964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0E01A-4C83-4503-8FB3-F7AF39682DD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ABED-1555-4EBE-978F-7D605CFB5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277E-CCC2-43F5-832C-A111D01C8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13A7-E1A9-4451-B359-01D1A11E4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FD28-B081-411F-B70B-93D4B7648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DAFD-EA06-43B6-B810-3EFCCF05E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C5D4-F88F-4072-8CC4-5FE2026B8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E1EB-0EA1-49F0-9CDE-D040A7319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8733-D705-444F-9FF4-820376208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2285-A981-49C9-AE2E-FE3769D59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5804-1462-447B-BF57-945F94209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7F3E-7CD8-48F9-BA06-382C63DC8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6721-45D6-4660-B550-43ACAF3B1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A3A54CE3-5E2C-4925-A7DC-222C15B95AC0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51160"/>
            <a:ext cx="548640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 </a:t>
            </a:r>
            <a:br>
              <a:rPr sz="2000"/>
            </a:b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2600"/>
            </a:b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ＭＳ Ｐゴシック"/>
              </a:rPr>
              <a:t>OSC2007 Tokyo/Sprin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ファイル入出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CSV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Csv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4078440"/>
            <a:ext cx="136980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4108320"/>
            <a:ext cx="4606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 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全体的な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に書いたとおりのプログラムが作成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を変更したら、プログラムが自動的に変更され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ルーチンワーク的なコーディングを自動化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文字列変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0312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発表者自己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7460-9F23-49BA-B597-7AACE1EFBD8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Scrip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VB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多言語対応による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ava, C#.NET, JavaScript, VB.NET, PHP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いった異なるプログラミング言語を 横断的に対応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データベース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の起源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？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オープンソースのソースコード自動生成型フレームワーク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ライセン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GNU LGPL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xcel(*.xls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ァイル形式の様式を中心とした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ソースコード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clipse/Apache Ant (Java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上で動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数十人月から数千人月規模のプロジェクトで適用実績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9844-345F-45C2-BF5A-46842CC09CE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35280" y="961920"/>
            <a:ext cx="5689440" cy="5491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483000"/>
            <a:ext cx="46087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PDO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ベー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の特徴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高速なデータベースアクセス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ストアドプロシージャ対応あり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除く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PHP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必要なソースコードを全て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省メモリ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大量データ件数の処理が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カーソルのスクロール方向が指定可能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Java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み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デッドロック・クエリタイムアウトのハンドリング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*.xls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ファイル読み込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語化パッチに取り組んでいます。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ーリングリストも運用しています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28AE-0627-4BB9-9C63-A406B31D4C1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整形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自動生成とは ほとんど関係ありません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後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00240" y="1676520"/>
          <a:ext cx="67453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53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609480" y="38782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5797440"/>
            <a:ext cx="8153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ライブラリ版もありま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400" y="2520360"/>
            <a:ext cx="5486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OSC2006 Tokyo/Fall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降の変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皆様から頂いた ご意見をもとに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新たに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, VB.NET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自動生成に対応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2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Character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Message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SC2006 Tokyo/Fall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懇親会などで お寄せ頂いた ご意見をきっかけに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 (VB.NE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は未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特長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076960" cy="465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低コスト </a:t>
            </a: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容易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NU LGP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単純な構造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が簡単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シンプルな操作性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複数言語対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ava / C#.NET / JavaScrip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1" lang="en-GB" sz="20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PHP / VB.NET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対応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の柔軟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表計算ソフトで記入するだけ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実行時ライブラリ不要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部分的導入も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他のフレームワークとも併用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9883-7A88-4749-94C4-9ED62715C9C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5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版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提供開始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2.29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HP 5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以降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DO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ベースのデータベース入出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インジェクションの脅威を回避・予防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残念ながら私たちは実プロジェクト導入実績を知りません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→試用してみようというチャレンジャー募集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への取り組み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0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メーリングリスト立ち上げ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日本語化パッチの提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DP.NET (Oracle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対応に取り組み中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に取り組んだなかで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*.xls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 それに対応するソースコードとがマッピングできれば、自動生成は実現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生成するプログラミング言語の差異は さほど重要ではない。むしろ雛形ソースコード作成の難易度が高い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ロジェクトによって ある程度のカスタマイズは必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自動生成されたソースコードは変更しない！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ジェネレーションギャップ デザインパターン の採用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拡張が必要な場合は「クラスの継承」をおこなう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は意外に高い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Excel(*.xls)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XML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変換が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CPU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コスト高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を考慮したモジュール分割設計が必要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終わり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適用工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基本的に設計・製造工程を対象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3280" y="2421000"/>
            <a:ext cx="1295280" cy="765000"/>
            <a:chOff x="1403280" y="2421000"/>
            <a:chExt cx="1295280" cy="765000"/>
          </a:xfrm>
        </p:grpSpPr>
        <p:sp>
          <p:nvSpPr>
            <p:cNvPr id="115" name=""/>
            <p:cNvSpPr/>
            <p:nvPr/>
          </p:nvSpPr>
          <p:spPr>
            <a:xfrm>
              <a:off x="1403280" y="2421000"/>
              <a:ext cx="1295280" cy="765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4480" y="2659680"/>
              <a:ext cx="901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要件定義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22440" y="2276640"/>
            <a:ext cx="2003040" cy="1095120"/>
            <a:chOff x="2422440" y="2276640"/>
            <a:chExt cx="2003040" cy="1095120"/>
          </a:xfrm>
        </p:grpSpPr>
        <p:sp>
          <p:nvSpPr>
            <p:cNvPr id="118" name=""/>
            <p:cNvSpPr/>
            <p:nvPr/>
          </p:nvSpPr>
          <p:spPr>
            <a:xfrm>
              <a:off x="2422440" y="2276640"/>
              <a:ext cx="2003040" cy="1095120"/>
            </a:xfrm>
            <a:custGeom>
              <a:avLst/>
              <a:gdLst>
                <a:gd name="textAreaLeft" fmla="*/ 0 w 2003040"/>
                <a:gd name="textAreaRight" fmla="*/ 2003040 w 200304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21600" y="2432880"/>
              <a:ext cx="1520280" cy="80172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7560" y="2698920"/>
              <a:ext cx="578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設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80000" y="2276640"/>
            <a:ext cx="1902960" cy="1095120"/>
            <a:chOff x="3780000" y="2276640"/>
            <a:chExt cx="1902960" cy="1095120"/>
          </a:xfrm>
        </p:grpSpPr>
        <p:sp>
          <p:nvSpPr>
            <p:cNvPr id="122" name=""/>
            <p:cNvSpPr/>
            <p:nvPr/>
          </p:nvSpPr>
          <p:spPr>
            <a:xfrm>
              <a:off x="3780000" y="2276640"/>
              <a:ext cx="1902960" cy="109512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1840" y="2432880"/>
              <a:ext cx="1419840" cy="801720"/>
            </a:xfrm>
            <a:custGeom>
              <a:avLst/>
              <a:gdLst>
                <a:gd name="textAreaLeft" fmla="*/ 0 w 1419840"/>
                <a:gd name="textAreaRight" fmla="*/ 1420200 w 141984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9760" y="2698920"/>
              <a:ext cx="5479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製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21320" y="2421000"/>
            <a:ext cx="1425240" cy="765000"/>
            <a:chOff x="5521320" y="2421000"/>
            <a:chExt cx="1425240" cy="765000"/>
          </a:xfrm>
        </p:grpSpPr>
        <p:sp>
          <p:nvSpPr>
            <p:cNvPr id="126" name=""/>
            <p:cNvSpPr/>
            <p:nvPr/>
          </p:nvSpPr>
          <p:spPr>
            <a:xfrm>
              <a:off x="5521320" y="2421000"/>
              <a:ext cx="1425240" cy="7650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8240" y="2659680"/>
              <a:ext cx="750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テス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60720" y="3373560"/>
            <a:ext cx="1690920" cy="97632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373560"/>
            <a:ext cx="1943280" cy="9921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3732120"/>
            <a:ext cx="1152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定義書記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2400" y="3710160"/>
            <a:ext cx="1300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ソースコー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自動生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77320" cy="480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生産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単純作業を自動化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工数を削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可読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均質なソースコードを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保守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の変更が即座にソースコードに反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仕様と実装が常に一致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化・均質化・変更の確実な実施などの結果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が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E72B-46D4-43AB-88B6-1595C25486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デ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規模増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自動生成の時間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83D5-8928-4687-877F-4A92027412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主要プロダク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3"/>
            <a:endCxn id="142" idx="2"/>
          </p:cNvCxnSpPr>
          <p:nvPr/>
        </p:nvCxnSpPr>
        <p:spPr>
          <a:xfrm>
            <a:off x="7162920" y="3019320"/>
            <a:ext cx="1010160" cy="151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45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3"/>
            <a:endCxn id="151" idx="1"/>
          </p:cNvCxnSpPr>
          <p:nvPr/>
        </p:nvCxnSpPr>
        <p:spPr>
          <a:xfrm flipV="1">
            <a:off x="1258560" y="5803200"/>
            <a:ext cx="75780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3" idx="3"/>
            <a:endCxn id="160" idx="1"/>
          </p:cNvCxnSpPr>
          <p:nvPr/>
        </p:nvCxnSpPr>
        <p:spPr>
          <a:xfrm flipV="1">
            <a:off x="1115640" y="166284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"/>
          <p:cNvCxnSpPr>
            <a:stCxn id="165" idx="3"/>
            <a:endCxn id="162" idx="1"/>
          </p:cNvCxnSpPr>
          <p:nvPr/>
        </p:nvCxnSpPr>
        <p:spPr>
          <a:xfrm flipV="1">
            <a:off x="1238040" y="3228120"/>
            <a:ext cx="633960" cy="2278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69" name=""/>
          <p:cNvCxnSpPr>
            <a:stCxn id="164" idx="3"/>
            <a:endCxn id="161" idx="1"/>
          </p:cNvCxnSpPr>
          <p:nvPr/>
        </p:nvCxnSpPr>
        <p:spPr>
          <a:xfrm flipV="1">
            <a:off x="1115640" y="245520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"/>
          <p:cNvCxnSpPr>
            <a:stCxn id="157" idx="1"/>
            <a:endCxn id="160" idx="3"/>
          </p:cNvCxnSpPr>
          <p:nvPr/>
        </p:nvCxnSpPr>
        <p:spPr>
          <a:xfrm flipH="1">
            <a:off x="2663280" y="1590840"/>
            <a:ext cx="432360" cy="7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1" name=""/>
          <p:cNvCxnSpPr>
            <a:stCxn id="158" idx="1"/>
            <a:endCxn id="161" idx="3"/>
          </p:cNvCxnSpPr>
          <p:nvPr/>
        </p:nvCxnSpPr>
        <p:spPr>
          <a:xfrm flipH="1">
            <a:off x="2663640" y="2382480"/>
            <a:ext cx="468720" cy="73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2" name=""/>
          <p:cNvCxnSpPr>
            <a:stCxn id="159" idx="1"/>
            <a:endCxn id="162" idx="3"/>
          </p:cNvCxnSpPr>
          <p:nvPr/>
        </p:nvCxnSpPr>
        <p:spPr>
          <a:xfrm flipH="1">
            <a:off x="2709360" y="3193560"/>
            <a:ext cx="386640" cy="356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53" idx="2"/>
            <a:endCxn id="156" idx="3"/>
          </p:cNvCxnSpPr>
          <p:nvPr/>
        </p:nvCxnSpPr>
        <p:spPr>
          <a:xfrm flipH="1">
            <a:off x="2665080" y="5047920"/>
            <a:ext cx="558000" cy="181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53" idx="2"/>
            <a:endCxn id="151" idx="3"/>
          </p:cNvCxnSpPr>
          <p:nvPr/>
        </p:nvCxnSpPr>
        <p:spPr>
          <a:xfrm flipH="1">
            <a:off x="2665080" y="5047920"/>
            <a:ext cx="558000" cy="756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53" idx="2"/>
            <a:endCxn id="155" idx="0"/>
          </p:cNvCxnSpPr>
          <p:nvPr/>
        </p:nvCxnSpPr>
        <p:spPr>
          <a:xfrm>
            <a:off x="3222360" y="5048280"/>
            <a:ext cx="127800" cy="3247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6" name=""/>
          <p:cNvCxnSpPr>
            <a:stCxn id="166" idx="2"/>
            <a:endCxn id="144" idx="0"/>
          </p:cNvCxnSpPr>
          <p:nvPr/>
        </p:nvCxnSpPr>
        <p:spPr>
          <a:xfrm>
            <a:off x="6738840" y="2515680"/>
            <a:ext cx="23040" cy="288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65" idx="2"/>
          </p:cNvCxnSpPr>
          <p:nvPr/>
        </p:nvCxnSpPr>
        <p:spPr>
          <a:xfrm flipV="1" rot="10800000">
            <a:off x="853200" y="3212640"/>
            <a:ext cx="2233080" cy="627840"/>
          </a:xfrm>
          <a:prstGeom prst="curvedConnector5">
            <a:avLst>
              <a:gd name="adj1" fmla="val 15285"/>
              <a:gd name="adj2" fmla="val 68100"/>
              <a:gd name="adj3" fmla="val 1528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178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動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42:30Z</dcterms:modified>
  <cp:revision>487</cp:revision>
  <dc:subject/>
  <dc:title>blanco Framework ご紹介</dc:title>
</cp:coreProperties>
</file>