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669CD-99D1-4574-9479-3B4DCB56E45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377-7856-4152-AD15-2C8B5C92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89B-5567-4DAF-9A72-B18AFAB1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E9A-81ED-483D-85DB-3AB0D1B2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7A2-AD17-4DCD-991A-3A2E2EFF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B671-A476-422F-BB11-5F17516C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0C9B-3FB7-414E-A399-9EFEBBC9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FF9E-217C-4098-81F8-CE5F7AFE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C951-583E-4FA1-956A-DC573DDC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FDAD-399C-4265-97C5-EC436C83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90DA-8F49-4B8C-9FF8-1A94A550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65AA-7F51-408E-B8D1-6D834F49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156-4FA1-49C9-A8BF-9EF83438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ADD1-8347-4252-95B6-14E4E082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4066-1348-4F68-8787-DED37E04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1CDE-26EF-46FE-940C-F0419126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D036-79AB-4A9D-8CDD-F4E81345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1441-D982-4770-8C9D-FD7D32AA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3AD-C629-449D-84D6-2562470A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98E4-1CA5-4510-962A-A9A60FA6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FE8-5770-4E4B-9DEE-08FEEA6A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CAF-AC29-48DB-B896-340DBF71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594-AF68-457F-A99D-41EA113E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DBD-1042-44C0-902C-CDB81F19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E65-BD64-447A-93F0-A5D2EE09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61A5F-9E1A-4B2F-B4DC-9310474A4887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7C5503-8861-4A77-A4D4-EB7E15750758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SC2006 Tokyo/Fal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2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3709-FA91-4342-AB6A-9B54B611A93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1D7-081C-4300-B1A5-21CC1B4FF5E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B4CA-7305-41BA-AED8-417AA73A049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272360" cy="3641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14172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79E-AF2B-473B-BE5A-9524FC714BB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次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.NET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対応という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00D4-3D7B-4623-A9FF-5B197A9CD15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do</cp:lastModifiedBy>
  <dcterms:modified xsi:type="dcterms:W3CDTF">2006-10-28T00:39:31Z</dcterms:modified>
  <cp:revision>298</cp:revision>
  <dc:subject/>
  <dc:title>blanco Framework ご紹介</dc:title>
</cp:coreProperties>
</file>