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32AC-2A6F-4C03-B574-5310C187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6EEF-9749-4A63-85B7-CDF99C90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BFD-65B0-455F-9134-7C0039E1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84B-96D0-44E3-B376-BA537C83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9B5-FD86-4093-8415-343AB4FE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645-6261-478F-9170-68FECAC8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4748-0EEC-4639-9CED-4D4FA254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32F-ADC5-4933-A42E-F9376265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507960"/>
            <a:ext cx="6476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48F-7691-4217-99A4-2E148258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F21-8DEF-4453-945B-541AA3BD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26A-BACD-4086-AA39-D1637F6D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A43C-1B2E-4126-AF8A-1B3C8F02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 fontScale="98000"/>
          </a:bodyPr>
          <a:p>
            <a:pPr marL="2858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379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96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440" indent="-191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5207040"/>
            <a:ext cx="158724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7040"/>
            <a:ext cx="241308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5207040"/>
            <a:ext cx="158760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35EE313B-F2AA-4860-8E30-30FE49A8A0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4160" y="1416960"/>
            <a:ext cx="827640" cy="33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nalyz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FI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TEX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D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RRO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nuVersion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FDE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O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NORMAL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D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YSTEM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UTIL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XMALLOC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2160" y="3782160"/>
            <a:ext cx="906840" cy="932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ul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1707840"/>
            <a:ext cx="841320" cy="50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21920" y="3912840"/>
            <a:ext cx="974880" cy="107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rapper supp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(Dirdoc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45960" y="1188720"/>
            <a:ext cx="1213920" cy="781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wra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agDIFFSETTIN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= diffutils op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2920" y="493920"/>
            <a:ext cx="991440" cy="64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enerate 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hrough men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8640" y="1983600"/>
            <a:ext cx="1348200" cy="17413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in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(not us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needs file fil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3440" y="1257480"/>
            <a:ext cx="592200" cy="49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files l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080" y="2978280"/>
            <a:ext cx="738360" cy="47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inM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4" idx="1"/>
          </p:cNvCxnSpPr>
          <p:nvPr/>
        </p:nvCxnSpPr>
        <p:spPr>
          <a:xfrm>
            <a:off x="2349000" y="4248000"/>
            <a:ext cx="257328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4" idx="3"/>
            <a:endCxn id="41" idx="1"/>
          </p:cNvCxnSpPr>
          <p:nvPr/>
        </p:nvCxnSpPr>
        <p:spPr>
          <a:xfrm flipV="1">
            <a:off x="5896800" y="3109680"/>
            <a:ext cx="477720" cy="133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5" idx="3"/>
            <a:endCxn id="41" idx="1"/>
          </p:cNvCxnSpPr>
          <p:nvPr/>
        </p:nvCxnSpPr>
        <p:spPr>
          <a:xfrm>
            <a:off x="6059880" y="1579320"/>
            <a:ext cx="314640" cy="153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3"/>
            <a:endCxn id="47" idx="1"/>
          </p:cNvCxnSpPr>
          <p:nvPr/>
        </p:nvCxnSpPr>
        <p:spPr>
          <a:xfrm flipV="1">
            <a:off x="2463840" y="285408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55" name=""/>
          <p:cNvCxnSpPr>
            <a:stCxn id="49" idx="3"/>
            <a:endCxn id="43" idx="1"/>
          </p:cNvCxnSpPr>
          <p:nvPr/>
        </p:nvCxnSpPr>
        <p:spPr>
          <a:xfrm flipV="1">
            <a:off x="964440" y="1960560"/>
            <a:ext cx="512280" cy="125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6" name=""/>
          <p:cNvCxnSpPr>
            <a:stCxn id="49" idx="3"/>
            <a:endCxn id="42" idx="1"/>
          </p:cNvCxnSpPr>
          <p:nvPr/>
        </p:nvCxnSpPr>
        <p:spPr>
          <a:xfrm>
            <a:off x="964440" y="3216240"/>
            <a:ext cx="478080" cy="103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7" name=""/>
          <p:cNvCxnSpPr>
            <a:stCxn id="46" idx="3"/>
            <a:endCxn id="45" idx="1"/>
          </p:cNvCxnSpPr>
          <p:nvPr/>
        </p:nvCxnSpPr>
        <p:spPr>
          <a:xfrm>
            <a:off x="2394360" y="815760"/>
            <a:ext cx="2451960" cy="76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8" name=""/>
          <p:cNvCxnSpPr>
            <a:stCxn id="43" idx="3"/>
            <a:endCxn id="45" idx="1"/>
          </p:cNvCxnSpPr>
          <p:nvPr/>
        </p:nvCxnSpPr>
        <p:spPr>
          <a:xfrm flipV="1">
            <a:off x="2317680" y="1579320"/>
            <a:ext cx="25286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54" name=""/>
          <p:cNvSpPr/>
          <p:nvPr/>
        </p:nvSpPr>
        <p:spPr>
          <a:xfrm>
            <a:off x="1330560" y="2610000"/>
            <a:ext cx="1133280" cy="49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buff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48" idx="1"/>
          </p:cNvCxnSpPr>
          <p:nvPr/>
        </p:nvCxnSpPr>
        <p:spPr>
          <a:xfrm flipV="1">
            <a:off x="2317680" y="1503360"/>
            <a:ext cx="366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3" idx="2"/>
            <a:endCxn id="54" idx="0"/>
          </p:cNvCxnSpPr>
          <p:nvPr/>
        </p:nvCxnSpPr>
        <p:spPr>
          <a:xfrm>
            <a:off x="1896840" y="2213280"/>
            <a:ext cx="7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1" name=""/>
          <p:cNvCxnSpPr>
            <a:endCxn id="45" idx="2"/>
          </p:cNvCxnSpPr>
          <p:nvPr/>
        </p:nvCxnSpPr>
        <p:spPr>
          <a:xfrm flipV="1">
            <a:off x="4647960" y="1969920"/>
            <a:ext cx="805320" cy="19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2" name=""/>
          <p:cNvCxnSpPr>
            <a:stCxn id="42" idx="3"/>
          </p:cNvCxnSpPr>
          <p:nvPr/>
        </p:nvCxnSpPr>
        <p:spPr>
          <a:xfrm flipV="1">
            <a:off x="2349000" y="3961800"/>
            <a:ext cx="22996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5840" y="304560"/>
            <a:ext cx="2629080" cy="4698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cs &amp; Buff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0680" y="2455560"/>
            <a:ext cx="802440" cy="111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sourc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7440" y="3988800"/>
            <a:ext cx="1070640" cy="840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r with stop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53760" y="4110480"/>
            <a:ext cx="816120" cy="5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Actio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9800" y="3569400"/>
            <a:ext cx="1311480" cy="1677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One vie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Handl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 display localized st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>
            <a:off x="939600" y="3013200"/>
            <a:ext cx="178200" cy="13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9" name=""/>
          <p:cNvCxnSpPr>
            <a:stCxn id="65" idx="3"/>
            <a:endCxn id="67" idx="1"/>
          </p:cNvCxnSpPr>
          <p:nvPr/>
        </p:nvCxnSpPr>
        <p:spPr>
          <a:xfrm flipV="1">
            <a:off x="2187720" y="4408200"/>
            <a:ext cx="44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0" name=""/>
          <p:cNvCxnSpPr>
            <a:stCxn id="65" idx="3"/>
            <a:endCxn id="71" idx="1"/>
          </p:cNvCxnSpPr>
          <p:nvPr/>
        </p:nvCxnSpPr>
        <p:spPr>
          <a:xfrm flipV="1">
            <a:off x="2187360" y="2936520"/>
            <a:ext cx="549720" cy="14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2" name=""/>
          <p:cNvCxnSpPr>
            <a:stCxn id="67" idx="3"/>
            <a:endCxn id="66" idx="1"/>
          </p:cNvCxnSpPr>
          <p:nvPr/>
        </p:nvCxnSpPr>
        <p:spPr>
          <a:xfrm>
            <a:off x="3940200" y="4408560"/>
            <a:ext cx="2107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2740680" y="2584800"/>
            <a:ext cx="109044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Header bar (path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79000" y="721800"/>
            <a:ext cx="947160" cy="157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Statu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60480" y="679680"/>
            <a:ext cx="104472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splitter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cp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3280" y="1704600"/>
            <a:ext cx="1239840" cy="46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detail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3" idx="3"/>
            <a:endCxn id="75" idx="1"/>
          </p:cNvCxnSpPr>
          <p:nvPr/>
        </p:nvCxnSpPr>
        <p:spPr>
          <a:xfrm>
            <a:off x="2125440" y="1508040"/>
            <a:ext cx="5403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7" name=""/>
          <p:cNvCxnSpPr>
            <a:stCxn id="73" idx="3"/>
            <a:endCxn id="74" idx="1"/>
          </p:cNvCxnSpPr>
          <p:nvPr/>
        </p:nvCxnSpPr>
        <p:spPr>
          <a:xfrm flipV="1">
            <a:off x="2125800" y="1031040"/>
            <a:ext cx="63072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78" name=""/>
          <p:cNvSpPr/>
          <p:nvPr/>
        </p:nvSpPr>
        <p:spPr>
          <a:xfrm>
            <a:off x="4483080" y="250920"/>
            <a:ext cx="1061640" cy="2544480"/>
          </a:xfrm>
          <a:prstGeom prst="rect">
            <a:avLst/>
          </a:prstGeom>
          <a:solidFill>
            <a:srgbClr val="cc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yntax colored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Editable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sic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2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cm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 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 for regis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re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10760" y="737640"/>
            <a:ext cx="1264320" cy="1571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dialogs search 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4" idx="3"/>
            <a:endCxn id="73" idx="1"/>
          </p:cNvCxnSpPr>
          <p:nvPr/>
        </p:nvCxnSpPr>
        <p:spPr>
          <a:xfrm flipV="1">
            <a:off x="939600" y="1507320"/>
            <a:ext cx="24012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1" name=""/>
          <p:cNvCxnSpPr>
            <a:stCxn id="73" idx="3"/>
            <a:endCxn id="71" idx="1"/>
          </p:cNvCxnSpPr>
          <p:nvPr/>
        </p:nvCxnSpPr>
        <p:spPr>
          <a:xfrm>
            <a:off x="2125440" y="1507680"/>
            <a:ext cx="61164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2" name=""/>
          <p:cNvCxnSpPr>
            <a:stCxn id="74" idx="3"/>
            <a:endCxn id="78" idx="1"/>
          </p:cNvCxnSpPr>
          <p:nvPr/>
        </p:nvCxnSpPr>
        <p:spPr>
          <a:xfrm>
            <a:off x="3809520" y="1031400"/>
            <a:ext cx="6548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3" name=""/>
          <p:cNvCxnSpPr>
            <a:stCxn id="75" idx="3"/>
            <a:endCxn id="78" idx="1"/>
          </p:cNvCxnSpPr>
          <p:nvPr/>
        </p:nvCxnSpPr>
        <p:spPr>
          <a:xfrm flipV="1">
            <a:off x="3900240" y="1523520"/>
            <a:ext cx="56412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4" name=""/>
          <p:cNvCxnSpPr>
            <a:stCxn id="78" idx="3"/>
            <a:endCxn id="79" idx="1"/>
          </p:cNvCxnSpPr>
          <p:nvPr/>
        </p:nvCxnSpPr>
        <p:spPr>
          <a:xfrm>
            <a:off x="5563800" y="1523520"/>
            <a:ext cx="227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1943280" cy="4701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Frames &amp; View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51440" y="765720"/>
            <a:ext cx="1296360" cy="3935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syntax par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parser langu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e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si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tc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ortr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h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ytho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ex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sr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g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o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q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java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li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ht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plusplu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sca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28600"/>
            <a:ext cx="0" cy="52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51960" y="304560"/>
            <a:ext cx="8802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Not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9160" y="2379960"/>
            <a:ext cx="1422720" cy="269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rysEdit as 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status 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lash scr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ispell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oto lin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ggle header (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6520" y="928800"/>
            <a:ext cx="691200" cy="120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LOCA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main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1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CK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2400" y="920160"/>
            <a:ext cx="662400" cy="81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2600" y="767520"/>
            <a:ext cx="11941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nicode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8320" y="3435840"/>
            <a:ext cx="921240" cy="132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lugins low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9560" y="3435120"/>
            <a:ext cx="784080" cy="10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Ver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ut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97320" y="771480"/>
            <a:ext cx="98856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option dialo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800" y="1613160"/>
            <a:ext cx="1418040" cy="38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Log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NU core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yp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et file 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&amp; Fil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heck loaded dll for ex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Files map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9400" y="771480"/>
            <a:ext cx="128088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Internet link in about b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izabl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wait cur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UI 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ultim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2286000" cy="317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23:50Z</dcterms:created>
  <dc:creator>Laoran</dc:creator>
  <dc:description/>
  <dc:language>en-US</dc:language>
  <cp:lastModifiedBy>Christian Blackburn</cp:lastModifiedBy>
  <dcterms:modified xsi:type="dcterms:W3CDTF">2004-03-18T00:08:39Z</dcterms:modified>
  <cp:revision>30</cp:revision>
  <dc:subject/>
  <dc:title>Presentation of WinMerge fi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rogrammation\WinMerge\WinMerge tilé\____documentation file WinMerge\slides graphic forma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