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84FE-9A0B-4849-A1DC-C8992D724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0B00-570E-43C3-BA3A-ECA0D291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374C-DF07-4455-8B3A-B97378E18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C601-14EF-41F4-A3DF-3AACEA5EF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F2D6-3F6C-4272-B666-939CB9B5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1973-0C47-4235-827A-7C715765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15F5-4DA5-43B4-B150-885A1096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60B5-50ED-441F-9454-07BF4DCE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9ECE-5C30-4912-AB0C-3EFA0B9C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F13B-F7DD-4B3F-B5FE-F466B0E5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8BBC-F31F-4380-8EB5-CC98FB57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1868-28C5-401A-ABFD-81A0D7B5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A4A9-6FB7-4BA7-9699-612A6EE2F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067280" cy="4438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572000"/>
            <a:ext cx="3657600" cy="45720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02920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5334120"/>
            <a:ext cx="350496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6400800" cy="1361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2590920"/>
            <a:ext cx="609840" cy="53316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312408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3429000"/>
            <a:ext cx="35053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90680" y="1909800"/>
            <a:ext cx="6362640" cy="3038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33920" y="2209680"/>
            <a:ext cx="5029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ファイル属性の確認。アーカイブ属性のみ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28195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読み取り専用属性と隠しファイル属性を付加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37339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隠しファイル属性を外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たかはしもとのぶ</cp:lastModifiedBy>
  <dcterms:modified xsi:type="dcterms:W3CDTF">2006-05-05T05:21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