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56CDF-E60D-4A36-876B-0E670DE1E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D9EA4-CA6E-484B-AEBC-58F026E56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73352-4AC5-4433-BB56-CB6B99892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D31D7-3DFB-43FE-95B9-A3F8D904B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5B0AC-782B-4E86-865E-0C5AB179D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A58C8-2006-435F-81F5-FCEC7FB31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6A61C-F15E-4875-9B80-132BCB65A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75DC2-C658-4C6E-BBD0-A1C56792D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98C71-E652-4717-A1CD-A15DEB70C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971BC-E385-4245-8E60-CA6471862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BF3E2-013E-40C2-BFD7-D5329F8BC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70481-863D-4876-853A-3E1E8C5E4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0581F-7B61-49BF-8A1A-9D767FB0D9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による接続処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76360" y="907920"/>
            <a:ext cx="936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OpenTC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000" y="33336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eraT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08000" y="90792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Op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258920" y="404640"/>
            <a:ext cx="0" cy="626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476360" y="33336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TS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71640" y="112536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5940360" y="549360"/>
          <a:ext cx="2664000" cy="1214280"/>
        </p:xfrm>
        <a:graphic>
          <a:graphicData uri="http://schemas.openxmlformats.org/drawingml/2006/table">
            <a:tbl>
              <a:tblPr/>
              <a:tblGrid>
                <a:gridCol w="1224000"/>
                <a:gridCol w="144000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フック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フック先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n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Xconn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Xrec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Xse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SAAsyncSel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XWSAAsyncSel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" name=""/>
          <p:cNvSpPr/>
          <p:nvPr/>
        </p:nvSpPr>
        <p:spPr>
          <a:xfrm>
            <a:off x="2627280" y="692280"/>
            <a:ext cx="649440" cy="576000"/>
          </a:xfrm>
          <a:prstGeom prst="wedgeRoundRectCallout">
            <a:avLst>
              <a:gd name="adj1" fmla="val -78606"/>
              <a:gd name="adj2" fmla="val 2768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ソケット関数のフッ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1700280"/>
            <a:ext cx="86328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SAAsyncSele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24000" y="2492280"/>
            <a:ext cx="86328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39640" y="126828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39640" y="2133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187280" y="19162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692360" y="1700280"/>
            <a:ext cx="129528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WSAAsyncSe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03640" y="1557360"/>
            <a:ext cx="1008000" cy="503280"/>
          </a:xfrm>
          <a:prstGeom prst="wedgeRoundRectCallout">
            <a:avLst>
              <a:gd name="adj1" fmla="val -68425"/>
              <a:gd name="adj2" fmla="val 2444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接続前は何もしな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87280" y="27082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92360" y="2492280"/>
            <a:ext cx="936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771640" y="2421000"/>
            <a:ext cx="2160720" cy="576360"/>
          </a:xfrm>
          <a:prstGeom prst="wedgeRoundRectCallout">
            <a:avLst>
              <a:gd name="adj1" fmla="val -55509"/>
              <a:gd name="adj2" fmla="val -344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へ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接続を行う。接続成功すると、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D_CONNEC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メッセージが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へ飛ぶ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08000" y="3068640"/>
            <a:ext cx="79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08000" y="321300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nCommOpe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3573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50920" y="393372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Star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16000" y="414972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9280" y="3933720"/>
            <a:ext cx="129528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WSAAsyncSe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403280" y="3141720"/>
            <a:ext cx="1368360" cy="574560"/>
          </a:xfrm>
          <a:prstGeom prst="wedgeRoundRectCallout">
            <a:avLst>
              <a:gd name="adj1" fmla="val -101277"/>
              <a:gd name="adj2" fmla="val 8812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D_READ | FD_OOB | FD_CLOSE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を登録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916360" y="414972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348000" y="3933720"/>
            <a:ext cx="1511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000000"/>
                </a:solidFill>
                <a:latin typeface="Arial"/>
              </a:rPr>
              <a:t>AUTH_advance_to_next_cr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59280" y="414972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292720" y="3933720"/>
            <a:ext cx="1511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tart_user_aut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940360" y="3213000"/>
            <a:ext cx="1440000" cy="503280"/>
          </a:xfrm>
          <a:prstGeom prst="wedgeRoundRectCallout">
            <a:avLst>
              <a:gd name="adj1" fmla="val -56175"/>
              <a:gd name="adj2" fmla="val 954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ユーザ認証ダイアログを表示す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08000" y="458136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nCommNotif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24000" y="4941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50920" y="530064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ProcRR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79280" y="4365720"/>
            <a:ext cx="720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D_REA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0920" y="602136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Receiv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116000" y="623736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619280" y="6021360"/>
            <a:ext cx="936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rec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56000" y="616572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7640" y="4581360"/>
            <a:ext cx="1872000" cy="576360"/>
          </a:xfrm>
          <a:prstGeom prst="wedgeRoundRectCallout">
            <a:avLst>
              <a:gd name="adj1" fmla="val -80023"/>
              <a:gd name="adj2" fmla="val -1143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一番始めは”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tocol Version Exchange”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がサーバより送られてく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987640" y="6021360"/>
            <a:ext cx="93672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KT_rec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24360" y="616572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56000" y="6021360"/>
            <a:ext cx="158436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_handle_server_I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940360" y="5300640"/>
            <a:ext cx="2592360" cy="36036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SH-2.0-TTSSH/2.46 Win3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227640" y="5950080"/>
            <a:ext cx="2089440" cy="647640"/>
          </a:xfrm>
          <a:prstGeom prst="wedgeRoundRectCallout">
            <a:avLst>
              <a:gd name="adj1" fmla="val -61851"/>
              <a:gd name="adj2" fmla="val -1936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のバージョン情報を検証後、クライアント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のバージョン情報をサーバへ送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08000" y="2997360"/>
            <a:ext cx="900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D_CONNE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3-09T15:52:49Z</dcterms:modified>
  <cp:revision>222</cp:revision>
  <dc:subject/>
  <dc:title>DDEのしくみ</dc:title>
</cp:coreProperties>
</file>