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7AF6-90C5-4677-905A-C6A083544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41D7-F885-4C98-9C57-A886DB97D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DAE8-2636-4C22-A6FD-FC768DE5A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C7AB-5BB2-4A56-8602-8906C025F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7D2F-0D50-4BBC-9899-F41DEE48B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8A3A-5731-43A8-A90B-40BFA3531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C18C-378D-40EE-9B7C-FCAC51780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92A7-5274-4C14-8EF8-17BF24CD6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0BD9-2A7C-44FF-B41E-899660EDB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19D0-48E8-41DF-B146-8D3491C5B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29A6-4202-45A0-B053-DEE2D777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052D-F8EC-4DEE-B4F4-CAA7D3B55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08BC3-04F5-44F2-941B-17330D880E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モジュール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10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83664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cmn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105264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0000" y="148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268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dlg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184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27280" y="1700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file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22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2133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set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2781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27280" y="256536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tek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92280"/>
            <a:ext cx="3743280" cy="237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060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981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692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112536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1268280"/>
            <a:ext cx="1295640" cy="432000"/>
          </a:xfrm>
          <a:prstGeom prst="wedgeRoundRectCallout">
            <a:avLst>
              <a:gd name="adj1" fmla="val -13601"/>
              <a:gd name="adj2" fmla="val -78675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によ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プロセス間通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2421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term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12000" y="2205000"/>
            <a:ext cx="1081080" cy="94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yg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dev/ptm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256536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27664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1844640"/>
            <a:ext cx="1295640" cy="432000"/>
          </a:xfrm>
          <a:prstGeom prst="wedgeRoundRectCallout">
            <a:avLst>
              <a:gd name="adj1" fmla="val -14703"/>
              <a:gd name="adj2" fmla="val 80513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l port2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番で待ち受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2637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270828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860640"/>
            <a:ext cx="122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Proxy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kanjimenu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3141720"/>
            <a:ext cx="289080" cy="647640"/>
          </a:xfrm>
          <a:prstGeom prst="upArrow">
            <a:avLst>
              <a:gd name="adj1" fmla="val 50000"/>
              <a:gd name="adj2" fmla="val 56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9564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43657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起動時にダイナミックローディン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ycode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menu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314172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launch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156360" y="2852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19640" y="4292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32720" y="4508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08720" y="429264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c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20000" y="450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20000" y="486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472428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unl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20000" y="530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515772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LEdi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3:46:57Z</dcterms:modified>
  <cp:revision>65</cp:revision>
  <dc:subject/>
  <dc:title>TeraTermモジュール構成</dc:title>
</cp:coreProperties>
</file>