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B3B45-0F44-4670-83CF-311D1D3FA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7DA6B-A951-404D-BA2E-876CD99F6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EB0EF-2E9C-47CF-AC04-55CF5924E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9C502-0940-4F07-910B-87916023C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0B968-FA73-46B6-B1B8-EEB14EA8B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93E57-6FEE-4D6C-85C9-F4B52E1DF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362A2-EE0D-4F72-80DD-7562CEBF3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1A71A-00E3-4898-91DC-799E2B884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E3CFB-4B52-4B3E-B0F2-D0C57E26B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5E9A0-6155-4558-9AA5-BE77F9A45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D81B9-AA15-4EA9-B151-13B7A15EA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C1798-C61E-4349-8A09-D970590F4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F3573-78E8-4986-A7ED-4771E5D6DB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36000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の認証シーケンス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(keyboard-interactiv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08000" y="693720"/>
            <a:ext cx="9367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148360" y="693720"/>
            <a:ext cx="93636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268360" y="1268280"/>
            <a:ext cx="0" cy="172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435640" y="1268280"/>
            <a:ext cx="0" cy="172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68360" y="15573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71640" y="1312920"/>
            <a:ext cx="230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268360" y="19177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71640" y="168120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INFO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1628640"/>
            <a:ext cx="1440000" cy="358920"/>
          </a:xfrm>
          <a:prstGeom prst="wedgeRoundRectCallout">
            <a:avLst>
              <a:gd name="adj1" fmla="val 80652"/>
              <a:gd name="adj2" fmla="val 12743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パスワード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268360" y="22766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771640" y="204156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INFO_RESPON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2268360" y="26607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71640" y="2421000"/>
            <a:ext cx="237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95280" y="2349360"/>
            <a:ext cx="1440000" cy="360360"/>
          </a:xfrm>
          <a:prstGeom prst="wedgeRoundRectCallout">
            <a:avLst>
              <a:gd name="adj1" fmla="val 80652"/>
              <a:gd name="adj2" fmla="val 3590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認証成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796000" y="1628640"/>
            <a:ext cx="1440000" cy="362160"/>
          </a:xfrm>
          <a:prstGeom prst="wedgeRoundRectCallout">
            <a:avLst>
              <a:gd name="adj1" fmla="val -72930"/>
              <a:gd name="adj2" fmla="val 32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プロンプト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268360" y="48974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771640" y="4653000"/>
            <a:ext cx="230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2268360" y="52578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771640" y="502272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PK_O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2268360" y="56167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771640" y="538164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2268360" y="60008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71640" y="5761080"/>
            <a:ext cx="237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268360" y="4508640"/>
            <a:ext cx="0" cy="180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3571920"/>
            <a:ext cx="77724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ja-JP" sz="1400" spc="-1" strike="noStrike" u="sng">
                <a:solidFill>
                  <a:srgbClr val="000000"/>
                </a:solidFill>
                <a:uFillTx/>
                <a:latin typeface="Arial"/>
              </a:rPr>
              <a:t>の認証シーケンス</a:t>
            </a:r>
            <a:r>
              <a:rPr b="0" lang="ja-JP" sz="1400" spc="-1" strike="noStrike" u="sng">
                <a:solidFill>
                  <a:srgbClr val="000000"/>
                </a:solidFill>
                <a:uFillTx/>
                <a:latin typeface="Arial"/>
              </a:rPr>
              <a:t>(publicke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435640" y="4508640"/>
            <a:ext cx="0" cy="180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908000" y="3932280"/>
            <a:ext cx="9367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932280"/>
            <a:ext cx="93636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4219560"/>
            <a:ext cx="1440000" cy="358920"/>
          </a:xfrm>
          <a:prstGeom prst="wedgeRoundRectCallout">
            <a:avLst>
              <a:gd name="adj1" fmla="val 81203"/>
              <a:gd name="adj2" fmla="val 14026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796000" y="4579920"/>
            <a:ext cx="1655640" cy="361800"/>
          </a:xfrm>
          <a:prstGeom prst="wedgeRoundRectCallout">
            <a:avLst>
              <a:gd name="adj1" fmla="val -71666"/>
              <a:gd name="adj2" fmla="val 4210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uthorized_keys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と照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5300640"/>
            <a:ext cx="1584360" cy="432000"/>
          </a:xfrm>
          <a:prstGeom prst="wedgeRoundRectCallout">
            <a:avLst>
              <a:gd name="adj1" fmla="val 68435"/>
              <a:gd name="adj2" fmla="val 224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と、秘密鍵で署名した公開鍵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796000" y="5227560"/>
            <a:ext cx="1655640" cy="433440"/>
          </a:xfrm>
          <a:prstGeom prst="wedgeRoundRectCallout">
            <a:avLst>
              <a:gd name="adj1" fmla="val -71861"/>
              <a:gd name="adj2" fmla="val 43407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と、署名され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検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15960" y="21564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の認証シーケンス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(Pagean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995640" y="549360"/>
            <a:ext cx="9367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588000" y="549360"/>
            <a:ext cx="9367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500720" y="1052640"/>
            <a:ext cx="0" cy="554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093080" y="1052640"/>
            <a:ext cx="0" cy="554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260360" y="549360"/>
            <a:ext cx="10080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エージェ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Pagean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763640" y="1052640"/>
            <a:ext cx="0" cy="554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500720" y="3013200"/>
            <a:ext cx="2589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43280" y="2768760"/>
            <a:ext cx="230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4500720" y="3373560"/>
            <a:ext cx="2589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3280" y="313848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PK_O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4500720" y="5776920"/>
            <a:ext cx="2589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43280" y="554184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4500720" y="6161040"/>
            <a:ext cx="2589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72080" y="5921280"/>
            <a:ext cx="230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700360" y="5605560"/>
            <a:ext cx="1440000" cy="431640"/>
          </a:xfrm>
          <a:prstGeom prst="wedgeRoundRectCallout">
            <a:avLst>
              <a:gd name="adj1" fmla="val 75356"/>
              <a:gd name="adj2" fmla="val -845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と、署名された公開鍵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308720" y="2695680"/>
            <a:ext cx="1656000" cy="361800"/>
          </a:xfrm>
          <a:prstGeom prst="wedgeRoundRectCallout">
            <a:avLst>
              <a:gd name="adj1" fmla="val -65342"/>
              <a:gd name="adj2" fmla="val 3684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uthorized_keys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と照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08720" y="5389560"/>
            <a:ext cx="1656000" cy="433440"/>
          </a:xfrm>
          <a:prstGeom prst="wedgeRoundRectCallout">
            <a:avLst>
              <a:gd name="adj1" fmla="val -64379"/>
              <a:gd name="adj2" fmla="val 4120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と、署名され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検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763640" y="210492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979640" y="1860480"/>
            <a:ext cx="244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AGENT_IDENTITIES_ANSW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763280" y="166356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79640" y="1428840"/>
            <a:ext cx="2305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AGENTC_REQUEST_IDENTIT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50920" y="1500120"/>
            <a:ext cx="1296720" cy="432000"/>
          </a:xfrm>
          <a:prstGeom prst="wedgeRoundRectCallout">
            <a:avLst>
              <a:gd name="adj1" fmla="val 65791"/>
              <a:gd name="adj2" fmla="val 8750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登録された公開鍵をすべて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284720" y="2797200"/>
            <a:ext cx="142920" cy="719280"/>
          </a:xfrm>
          <a:custGeom>
            <a:avLst/>
            <a:gdLst>
              <a:gd name="textAreaLeft" fmla="*/ 91440 w 142920"/>
              <a:gd name="textAreaRight" fmla="*/ 143280 w 142920"/>
              <a:gd name="textAreaTop" fmla="*/ 18720 h 719280"/>
              <a:gd name="textAreaBottom" fmla="*/ 700560 h 719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050920" y="3373560"/>
            <a:ext cx="2160720" cy="431640"/>
          </a:xfrm>
          <a:prstGeom prst="wedgeRoundRectCallout">
            <a:avLst>
              <a:gd name="adj1" fmla="val 52425"/>
              <a:gd name="adj2" fmla="val -10110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K_OK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が返るまで、エージェントからの公開鍵をすべて試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63640" y="505764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979640" y="4813200"/>
            <a:ext cx="244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AGENT_SIGN_RESPON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1763280" y="461628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979640" y="438156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AGENTC_SIGN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716360" y="1284120"/>
            <a:ext cx="1150920" cy="360360"/>
          </a:xfrm>
          <a:prstGeom prst="wedgeRoundRectCallout">
            <a:avLst>
              <a:gd name="adj1" fmla="val -70689"/>
              <a:gd name="adj2" fmla="val 5968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要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716360" y="4021200"/>
            <a:ext cx="1150920" cy="431640"/>
          </a:xfrm>
          <a:prstGeom prst="wedgeRoundRectCallout">
            <a:avLst>
              <a:gd name="adj1" fmla="val -70138"/>
              <a:gd name="adj2" fmla="val 8860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渡して署名を要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50920" y="4452840"/>
            <a:ext cx="1296720" cy="432000"/>
          </a:xfrm>
          <a:prstGeom prst="wedgeRoundRectCallout">
            <a:avLst>
              <a:gd name="adj1" fmla="val 65791"/>
              <a:gd name="adj2" fmla="val 8750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秘密鍵で署名した公開鍵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771640" y="2581200"/>
            <a:ext cx="1440000" cy="358920"/>
          </a:xfrm>
          <a:prstGeom prst="wedgeRoundRectCallout">
            <a:avLst>
              <a:gd name="adj1" fmla="val 70949"/>
              <a:gd name="adj2" fmla="val 6548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maya</cp:lastModifiedBy>
  <dcterms:modified xsi:type="dcterms:W3CDTF">2008-11-26T08:33:54Z</dcterms:modified>
  <cp:revision>335</cp:revision>
  <dc:subject/>
  <dc:title>DDEのしくみ</dc:title>
</cp:coreProperties>
</file>