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F695-8F95-4FE0-AF82-DCD720FC0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86E0-132E-444D-B918-8C6E78508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76C0-0615-4659-AC83-5B5FB11F7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5EAE-DA96-401D-A400-B777A07BB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805A-3737-42D9-81ED-EE9A108F3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8245-63C7-4E8D-94C5-75A405A26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A5B9-352B-4D9C-9D39-6D9666817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2BE7-22FB-44D2-BD81-A59C360F8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8116-B4EC-47E8-8180-DBF234686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2C63-E61B-43BA-87C7-A1970482D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053E-4A77-45F3-A1E1-A347F8BF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29BE-8BCD-4FA0-88B9-D9C91052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5BD4C-6F0D-4B7C-AF7F-67E142D48F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バッファ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4936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 u="sng">
                <a:solidFill>
                  <a:srgbClr val="000000"/>
                </a:solidFill>
                <a:uFillTx/>
                <a:latin typeface="Arial"/>
              </a:rPr>
              <a:t>TComVar 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1052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2000" y="1052640"/>
            <a:ext cx="216072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0920" y="907920"/>
            <a:ext cx="1368360" cy="2017800"/>
            <a:chOff x="250920" y="907920"/>
            <a:chExt cx="1368360" cy="2017800"/>
          </a:xfrm>
        </p:grpSpPr>
        <p:sp>
          <p:nvSpPr>
            <p:cNvPr id="46" name=""/>
            <p:cNvSpPr/>
            <p:nvPr/>
          </p:nvSpPr>
          <p:spPr>
            <a:xfrm>
              <a:off x="250920" y="9079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0920" y="1197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0920" y="14842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0920" y="1773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0920" y="206064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920" y="234936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0920" y="263700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 flipV="1">
            <a:off x="1619280" y="1052640"/>
            <a:ext cx="1512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3068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空きあり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1052640"/>
            <a:ext cx="2160720" cy="129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1628640"/>
            <a:ext cx="1512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105264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76500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619280" y="184464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19280" y="1052640"/>
            <a:ext cx="151272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422100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5280" y="4076640"/>
            <a:ext cx="1368360" cy="2017800"/>
            <a:chOff x="395280" y="4076640"/>
            <a:chExt cx="1368360" cy="2017800"/>
          </a:xfrm>
        </p:grpSpPr>
        <p:sp>
          <p:nvSpPr>
            <p:cNvPr id="63" name=""/>
            <p:cNvSpPr/>
            <p:nvPr/>
          </p:nvSpPr>
          <p:spPr>
            <a:xfrm>
              <a:off x="395280" y="407664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5280" y="43657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5280" y="4653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5280" y="494208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5280" y="5229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5280" y="55180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5280" y="580572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 flipV="1">
            <a:off x="1763640" y="4220640"/>
            <a:ext cx="1513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48000" y="623736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フル状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221000"/>
            <a:ext cx="2160360" cy="187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4797360"/>
            <a:ext cx="1513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393372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763640" y="501336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763640" y="5516280"/>
            <a:ext cx="1513080" cy="14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516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2205000"/>
            <a:ext cx="2160720" cy="14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105264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5373720"/>
            <a:ext cx="2160360" cy="144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2108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1052640"/>
            <a:ext cx="215640" cy="1296720"/>
          </a:xfrm>
          <a:prstGeom prst="downArrow">
            <a:avLst>
              <a:gd name="adj1" fmla="val 50000"/>
              <a:gd name="adj2" fmla="val 1503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6360" y="14842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560920"/>
            <a:ext cx="216000" cy="604800"/>
          </a:xfrm>
          <a:prstGeom prst="downArrow">
            <a:avLst>
              <a:gd name="adj1" fmla="val 50000"/>
              <a:gd name="adj2" fmla="val 7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6360" y="57340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6165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645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08720" y="3933360"/>
            <a:ext cx="0" cy="251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12000" y="39337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3933720"/>
            <a:ext cx="0" cy="15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6720" y="2060640"/>
            <a:ext cx="2519280" cy="1584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リング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バッファフルの場合は最古の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から上書き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バッファ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共有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分が有効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データとな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採取とマクロ実行を同時に行う場合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同一値に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6:00:59Z</dcterms:modified>
  <cp:revision>114</cp:revision>
  <dc:subject/>
  <dc:title>DDEのしくみ</dc:title>
</cp:coreProperties>
</file>