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1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_rels/notesSlide9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74.xml.rels" ContentType="application/vnd.openxmlformats-package.relationships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9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2600" y="739800"/>
            <a:ext cx="492732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0280" y="4680000"/>
            <a:ext cx="4971960" cy="451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2DD4BA-1899-4819-8BC8-9C9CB4E214F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BB651B-14E4-4AC7-BBB7-1124A060BB1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E2BAEA-0279-42EE-BBF3-06675DFF8A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EEFBD-D06D-4999-AED2-74AFF9D287B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5E9CC1-A6D4-4FBA-9DE1-3C35D43B7A6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E7F95C-0672-4290-9BA2-07B7B55929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7E7E7E-7D91-4929-9548-C02656D3D7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1F2F07-5681-475F-BF37-5E3C5DE180E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BDC208-7CF3-42B9-AA85-0C7A1D0DDDD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2C53A-7238-4B9B-A5D3-AC1F26C5EE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0BC3B9-F08A-494B-BBED-1EE9012E1D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AC905-7CA4-4457-A6F1-73E8634210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2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0FAECB-E5BE-443E-AC1E-205A5BB5B18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BCDE3-00DC-40DA-8B17-BEFB7A7BB19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4021BB-6745-4F6D-A672-A0810828B5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2C74D0-A0D4-4BF9-BA02-3030BFB40F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1C32A0-261E-41D7-AD24-B9EF47393F3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3D820-4519-4ED8-84AF-508B9707085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A2A28-0046-4169-ADAE-C07927F61BE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3859200" y="9443520"/>
            <a:ext cx="296712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663472-C3FC-46BD-A291-24B170854A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0" y="9443520"/>
            <a:ext cx="2968560" cy="49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 txBox="1"/>
          <p:nvPr/>
        </p:nvSpPr>
        <p:spPr>
          <a:xfrm>
            <a:off x="0" y="-360"/>
            <a:ext cx="296856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3859200" y="-360"/>
            <a:ext cx="296712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1"/>
          <p:cNvSpPr>
            <a:spLocks noGrp="1"/>
          </p:cNvSpPr>
          <p:nvPr>
            <p:ph type="sldImg"/>
          </p:nvPr>
        </p:nvSpPr>
        <p:spPr>
          <a:xfrm>
            <a:off x="93024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880" cy="447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DA88E-21C1-4D45-9245-53530511AC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D800F-2AEB-4D97-88FE-F603E4D54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D7003-219A-405A-A8B7-8D689657BE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79350-905E-4892-8999-3F946D631B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07100-2595-411B-84C3-511ECE075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1532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8880" y="13712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6176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1532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8880" y="3878640"/>
            <a:ext cx="25268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8C80-903F-4804-952E-B742A8AA7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B68DD-9530-434C-BFEC-5EC3E9CB3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DCD1F-6FB1-4E8D-A9FF-5482E0205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01720" y="285840"/>
            <a:ext cx="76960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36477-6AC1-451E-8114-BA3C45304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8EC2B-FE9D-4103-B5D6-2DF29E4B9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3320" y="38786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617CD-9FB5-4ED1-BC0B-2BA6476A2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3320" y="1371240"/>
            <a:ext cx="382968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1760" y="3878640"/>
            <a:ext cx="7848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348E7-1771-4150-A31B-9A17BEB4E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60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60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5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6" marL="1947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07120" y="6089760"/>
            <a:ext cx="1218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88480" y="6173640"/>
            <a:ext cx="838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020F-F1ED-47F5-9CDF-3CF3276F6683}" type="slidenum">
              <a:rPr b="0" i="1" lang="ko-KR" sz="1400" spc="-1" strike="noStrike">
                <a:solidFill>
                  <a:srgbClr val="0000cc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58840" y="6246720"/>
            <a:ext cx="25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360" rIns="1836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cc"/>
                </a:solidFill>
                <a:latin typeface="Arial"/>
                <a:ea typeface="굴림"/>
              </a:rPr>
              <a:t>Embedded System Software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000" spc="-1" strike="noStrike">
                <a:solidFill>
                  <a:srgbClr val="ffff00"/>
                </a:solidFill>
                <a:latin typeface="Times New Roman"/>
                <a:ea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400" spc="-1" strike="noStrike">
                <a:solidFill>
                  <a:srgbClr val="ff0033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1640" y="1162080"/>
            <a:ext cx="8226360" cy="60120"/>
          </a:xfrm>
          <a:prstGeom prst="rect">
            <a:avLst/>
          </a:prstGeom>
          <a:gradFill rotWithShape="0">
            <a:gsLst>
              <a:gs pos="0">
                <a:srgbClr val="efeffb"/>
              </a:gs>
              <a:gs pos="100000">
                <a:srgbClr val="0000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4400" bIns="14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857160" algn="ctr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200240" indent="176040" algn="ctr">
              <a:spcBef>
                <a:spcPts val="451"/>
              </a:spcBef>
              <a:buClr>
                <a:srgbClr val="cc33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542960" indent="176400" algn="ctr"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542960" indent="176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os-ii.com/" TargetMode="External"/><Relationship Id="rId2" Type="http://schemas.openxmlformats.org/officeDocument/2006/relationships/hyperlink" Target="http://www.ucos-ii.com/" TargetMode="External"/><Relationship Id="rId3" Type="http://schemas.openxmlformats.org/officeDocument/2006/relationships/hyperlink" Target="http://www.ucos-ii.com/" TargetMode="External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br>
              <a:rPr sz="3200"/>
            </a:b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제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3,4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차 강의내용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정보통신진흥원 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M-EM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교안개발팀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상태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155600" y="1676520"/>
          <a:ext cx="7124760" cy="4147920"/>
        </p:xfrm>
        <a:graphic>
          <a:graphicData uri="http://schemas.openxmlformats.org/drawingml/2006/table">
            <a:tbl>
              <a:tblPr/>
              <a:tblGrid>
                <a:gridCol w="3562560"/>
                <a:gridCol w="3562200"/>
              </a:tblGrid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상 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설 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033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ORMA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면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메모리에는 존재하지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 있는 상태는 아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ADY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준비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수행될 수는 있지만 현 태스크보다 우선순위가 낮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UNNING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실행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를 실제로 사용하고 있을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DELAY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지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얼마의 시간동안 작업이 중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AITING FOR AN EV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이벤트에 대한 대기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vent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발생을 기다릴 때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예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: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/O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의 연산 종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공유 리소스가 사용 가능해 질  때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ing pulse 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등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57240" bIns="57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ERRUPTED (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중단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57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인터럽트가 일어나고 </a:t>
                      </a:r>
                      <a:r>
                        <a:rPr b="1" lang="en-US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PU</a:t>
                      </a:r>
                      <a:r>
                        <a:rPr b="1" lang="ko-KR" sz="16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 인터럽트 서비스를 수행할 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F8677-2ABD-4533-8BF3-3634EF26BD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들의 상태 전이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87320" y="1625760"/>
            <a:ext cx="7581960" cy="4210920"/>
            <a:chOff x="787320" y="1625760"/>
            <a:chExt cx="7581960" cy="4210920"/>
          </a:xfrm>
        </p:grpSpPr>
        <p:sp>
          <p:nvSpPr>
            <p:cNvPr id="131" name=""/>
            <p:cNvSpPr/>
            <p:nvPr/>
          </p:nvSpPr>
          <p:spPr>
            <a:xfrm>
              <a:off x="3924360" y="1625760"/>
              <a:ext cx="111744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38480" y="1689120"/>
              <a:ext cx="95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71600" y="1816200"/>
              <a:ext cx="25401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041800" y="1816200"/>
              <a:ext cx="6098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4240" y="1816200"/>
              <a:ext cx="0" cy="27684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71600" y="1816200"/>
              <a:ext cx="0" cy="28065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17920" y="1828800"/>
              <a:ext cx="0" cy="27813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87320" y="46101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63640" y="4673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DORM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33640" y="4597560"/>
              <a:ext cx="1117800" cy="39348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09960" y="46609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EAD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79960" y="4584600"/>
              <a:ext cx="111780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5628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RUN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51840" y="4584600"/>
              <a:ext cx="1117440" cy="393840"/>
            </a:xfrm>
            <a:prstGeom prst="ellipse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40760" y="46483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51640" y="4978440"/>
              <a:ext cx="0" cy="546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1371240" y="5524560"/>
              <a:ext cx="4267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371600" y="4991040"/>
              <a:ext cx="0" cy="533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90512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4040" y="478800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10360" y="4775040"/>
              <a:ext cx="1015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04760" y="48895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12920" y="487692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6172200" y="487692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33440" y="234936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65440" y="4165560"/>
              <a:ext cx="1638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79560" y="49402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17920" y="1981080"/>
              <a:ext cx="1701720" cy="179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ostFron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emPos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Resume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tick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6680" y="4927680"/>
              <a:ext cx="1155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44956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errup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114800" y="4940280"/>
              <a:ext cx="965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eempted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24360" y="3975120"/>
              <a:ext cx="1473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TASK_SW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84400" y="5575320"/>
              <a:ext cx="1117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Del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2400" y="1981080"/>
              <a:ext cx="1574640" cy="12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Box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Suspend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imeDlyHMSM( 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B4CD-988E-40FD-A59E-25F003CA16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시 각 태스크 별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할당 받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M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상주하면서 태스크의 상태를 관리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kPtr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 꼭대기를 가리키는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리어 코드의 문맥 전환 코드 부분에서 접근하는 유일한 필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맨 위에 배치하는 것이 어셈블리 언어에서 접근하도록 하는데 좋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Stat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값들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c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있음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Prio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 순위가 높을수록 작은 값을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Dly :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지연될 필요가 있을 때나 일정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두고 이벤트 발생을 기다릴 때 사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혹은 기다릴 시간을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ock tic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 때에는 지연되지 않거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없는 상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F8890-7384-4C8E-8390-E5E55AD736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Control Blocks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Y, OSTCBBitX, OSTCBBitY :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생성되거나 우선순위가 바뀔 때 사용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Next, OSTCBPrev : OS_TCB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양방향으로 링크하는데 사용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각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 값을 갱신하는데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생성시 링크되고 태스크가 제거될 때 링크도 제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EventPtr : Event control block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14680" y="2209680"/>
            <a:ext cx="4863960" cy="1409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65440" y="2260440"/>
            <a:ext cx="47498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X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= priority &amp; 0x07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X = OSMapTbl[priority &amp; 0x07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Y = priority &gt;&gt;3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CBBitY = OSMapTbl[priority &gt;&gt;3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BC096-B5A6-4B8F-96A4-BC2278D1DB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57920" cy="24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태스크 상태를 저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위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unning, Waiting, Dormant, 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의 이중 연결 리스트의 이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태스크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받은 이벤트나 메시지에 대한 포인터 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Tbl[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위치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될 때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은 하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CBFreeLis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연결되어 관리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16000" y="2857320"/>
            <a:ext cx="8839080" cy="3340440"/>
            <a:chOff x="216000" y="2857320"/>
            <a:chExt cx="8839080" cy="3340440"/>
          </a:xfrm>
        </p:grpSpPr>
        <p:sp>
          <p:nvSpPr>
            <p:cNvPr id="174" name=""/>
            <p:cNvSpPr/>
            <p:nvPr/>
          </p:nvSpPr>
          <p:spPr>
            <a:xfrm>
              <a:off x="135900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5900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46040" y="4356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0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1148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1148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9888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1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86396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396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51360" y="435600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2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48440" y="4673520"/>
              <a:ext cx="1231920" cy="15242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48440" y="5105520"/>
              <a:ext cx="1231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91240" y="4229280"/>
              <a:ext cx="2286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Tbl[OS_MAX_TASKS+OS_N_SYS_TASKS-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90920" y="4902120"/>
              <a:ext cx="520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56000" y="4915080"/>
              <a:ext cx="520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92960" y="49021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95880" y="4902120"/>
              <a:ext cx="95256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508960" y="474984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6000" y="3886200"/>
              <a:ext cx="200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74360" y="2856960"/>
              <a:ext cx="1141920" cy="274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5900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148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6396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48440" y="4673520"/>
              <a:ext cx="1231920" cy="432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371600" y="474984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1480" y="4737240"/>
              <a:ext cx="12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83876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23240" y="473724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Nex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2163-4D4E-4E83-8D22-56454E50B9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변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의 태스크를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현재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를 효율적을 검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에 의해 그룹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그룹 당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우선순위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ID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Grp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각 비트는 해당 그룹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RdyTbl[ ]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지정된 우선순위의 각 태스크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지 여부를 표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B1A7-2FE9-4F48-BF3C-1A412B26A8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준비 리스트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87320" y="1206360"/>
            <a:ext cx="7925040" cy="5189400"/>
            <a:chOff x="787320" y="1206360"/>
            <a:chExt cx="7925040" cy="5189400"/>
          </a:xfrm>
        </p:grpSpPr>
        <p:grpSp>
          <p:nvGrpSpPr>
            <p:cNvPr id="205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206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1028880" y="1487520"/>
              <a:ext cx="2949480" cy="306360"/>
              <a:chOff x="1028880" y="1487520"/>
              <a:chExt cx="2949480" cy="306360"/>
            </a:xfrm>
          </p:grpSpPr>
          <p:sp>
            <p:nvSpPr>
              <p:cNvPr id="289" name=""/>
              <p:cNvSpPr/>
              <p:nvPr/>
            </p:nvSpPr>
            <p:spPr>
              <a:xfrm>
                <a:off x="36093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4072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87208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50344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13444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76616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97160" y="148752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028880" y="148752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028880" y="14875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028880" y="179388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02888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397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7661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134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50344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7208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072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609360" y="148752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978360" y="148752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73600" y="5273640"/>
              <a:ext cx="1847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30960" y="5391000"/>
              <a:ext cx="328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7408440" y="5097240"/>
              <a:ext cx="150840" cy="29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902120" y="5530680"/>
              <a:ext cx="2241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43280" y="5715000"/>
              <a:ext cx="354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 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4360" y="5918040"/>
              <a:ext cx="39621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와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RdyTbl [OS_LOWEST_PRIO / 8+1 ]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인덱스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EAD7A-DB92-47EB-A5EF-0D6212E187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상 가장 높은 우선순위의 태스크를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가장 높은 우선순위의 태스크와 다음에 실행할 태스크가 결정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;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ㅁ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ched(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스케줄링을 수행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55720" y="2870280"/>
            <a:ext cx="7576920" cy="3262320"/>
            <a:chOff x="855720" y="2870280"/>
            <a:chExt cx="7576920" cy="3262320"/>
          </a:xfrm>
        </p:grpSpPr>
        <p:sp>
          <p:nvSpPr>
            <p:cNvPr id="375" name=""/>
            <p:cNvSpPr/>
            <p:nvPr/>
          </p:nvSpPr>
          <p:spPr>
            <a:xfrm>
              <a:off x="855720" y="2870280"/>
              <a:ext cx="6141960" cy="326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void OSSched (void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NT8U y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NTER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(OSLockNesting | OSIntNesting) == 0) {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y = OSUnMapTbl[OSRdyGrp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PrioHighRdy = (INT8U)((y &lt;&lt; 3) + OSUnMapTbl[OSRdyTbl[y]])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if (OSPrioHighRdy != OSPrioCur) {           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TCBHighRdy = OSTCBPrioTbl[OSPrioHighRdy]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CtxSwCtr++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     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TASK_SW();       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  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   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OS_EXIT_CRITICAL()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76"/>
                </a:spcBef>
                <a:tabLst>
                  <a:tab algn="l" pos="0"/>
                  <a:tab algn="l" pos="380880"/>
                  <a:tab algn="l" pos="762120"/>
                  <a:tab algn="l" pos="1143000"/>
                  <a:tab algn="l" pos="1523880"/>
                  <a:tab algn="l" pos="1905120"/>
                  <a:tab algn="l" pos="2286000"/>
                  <a:tab algn="l" pos="2666880"/>
                  <a:tab algn="l" pos="3048120"/>
                  <a:tab algn="l" pos="3429000"/>
                  <a:tab algn="l" pos="3809880"/>
                  <a:tab algn="l" pos="4191120"/>
                  <a:tab algn="l" pos="4572000"/>
                  <a:tab algn="l" pos="4952880"/>
                  <a:tab algn="l" pos="5334120"/>
                  <a:tab algn="l" pos="5715000"/>
                  <a:tab algn="l" pos="6095880"/>
                  <a:tab algn="l" pos="6477120"/>
                  <a:tab algn="l" pos="6858000"/>
                  <a:tab algn="l" pos="7238880"/>
                  <a:tab algn="l" pos="762012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고딕"/>
                </a:rPr>
                <a:t>}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55720" y="287028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55720" y="6132600"/>
              <a:ext cx="61419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5572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7680" y="2870280"/>
              <a:ext cx="0" cy="326232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59240" y="3073320"/>
              <a:ext cx="2271960" cy="4590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호출 또는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케줄링 불능 상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고딕"/>
                </a:rPr>
                <a:t>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여부 확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29600" y="3657600"/>
              <a:ext cx="103968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우선순위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 결정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402240" y="4876920"/>
              <a:ext cx="2030400" cy="62460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현재 실행중인 태스크가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가장 높은 태스크인지 확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–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필요 없는 문맥교환 방지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265560" y="4851360"/>
              <a:ext cx="1306440" cy="44136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 문맥 교환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수행 매크로 호출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84360" y="4394160"/>
              <a:ext cx="2975040" cy="216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5" name=""/>
            <p:cNvCxnSpPr>
              <a:stCxn id="384" idx="3"/>
              <a:endCxn id="382" idx="0"/>
            </p:cNvCxnSpPr>
            <p:nvPr/>
          </p:nvCxnSpPr>
          <p:spPr>
            <a:xfrm>
              <a:off x="4573080" y="4501800"/>
              <a:ext cx="2845800" cy="375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6" name=""/>
            <p:cNvCxnSpPr>
              <a:stCxn id="383" idx="1"/>
              <a:endCxn id="383" idx="1"/>
            </p:cNvCxnSpPr>
            <p:nvPr/>
          </p:nvCxnSpPr>
          <p:spPr>
            <a:xfrm flipH="1" flipV="1" rot="10800000">
              <a:off x="3265200" y="5153400"/>
              <a:ext cx="2160" cy="2520"/>
            </a:xfrm>
            <a:prstGeom prst="bentConnector3">
              <a:avLst>
                <a:gd name="adj1" fmla="val -1440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87" name=""/>
            <p:cNvSpPr/>
            <p:nvPr/>
          </p:nvSpPr>
          <p:spPr>
            <a:xfrm>
              <a:off x="1114560" y="3759120"/>
              <a:ext cx="3635280" cy="2034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88" name=""/>
            <p:cNvCxnSpPr>
              <a:stCxn id="387" idx="3"/>
              <a:endCxn id="380" idx="1"/>
            </p:cNvCxnSpPr>
            <p:nvPr/>
          </p:nvCxnSpPr>
          <p:spPr>
            <a:xfrm flipV="1">
              <a:off x="4763880" y="3301920"/>
              <a:ext cx="495720" cy="559080"/>
            </a:xfrm>
            <a:prstGeom prst="bentConnector3">
              <a:avLst>
                <a:gd name="adj1" fmla="val 4832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89" name=""/>
            <p:cNvCxnSpPr/>
            <p:nvPr/>
          </p:nvCxnSpPr>
          <p:spPr>
            <a:xfrm flipV="1">
              <a:off x="6935760" y="3890520"/>
              <a:ext cx="381600" cy="396000"/>
            </a:xfrm>
            <a:prstGeom prst="bentConnector3">
              <a:avLst>
                <a:gd name="adj1" fmla="val 47875"/>
              </a:avLst>
            </a:prstGeom>
            <a:ln w="28440">
              <a:solidFill>
                <a:srgbClr val="000000"/>
              </a:solidFill>
              <a:miter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5BAD-F698-409C-AE39-D96ECF47F3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le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가 없을 경우 시스템이 자동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장 낮은 우선순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실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소프트웨어에 의해 절대로 삭제될 수 없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stics task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행 중 통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 백분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–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우선순위로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351080" y="3949560"/>
          <a:ext cx="5634000" cy="1814400"/>
        </p:xfrm>
        <a:graphic>
          <a:graphicData uri="http://schemas.openxmlformats.org/drawingml/2006/table">
            <a:tbl>
              <a:tblPr/>
              <a:tblGrid>
                <a:gridCol w="5634000"/>
              </a:tblGrid>
              <a:tr h="18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Idle (void *pda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pdata = pdata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for( ; ;) {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NTER_CRITICAL()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   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IdleCtr++;        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/*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시스템의 실행 통계를 위한 카운터</a:t>
                      </a:r>
                      <a:r>
                        <a:rPr b="1" lang="ko-KR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    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OS_EXIT_CRITICAL(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ko-KR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31D9-4014-47B1-8DFC-9A11941BA2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 전이나 실행 중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생성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한 생성은 불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tas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할 태스크 코드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전달될 인자의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*pto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서 사용할 스택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op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가리키는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가 요구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 검사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생성되기 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해당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태스크가 이미 있는지 확인 </a:t>
            </a:r>
            <a:r>
              <a:rPr b="1" lang="ko-K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하면 인터럽트가 발생한 것처럼 스택을 초기화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저장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E4D58-F803-447D-B3CD-F1B695C61F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주요내용 및 방향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요내용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개요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프로그램 작성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방향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에 대한 기본이해로부터 간단한 프로그래밍까지를 실습할 수 있는 기회 제공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운영체제 전체를 파악하기 보다는 예제 프로그램을 분석하는 데 요구되는 함수나 구조를 중심으로 접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xWorks, Nucleus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다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해서 진행하는 방법도 가능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B921C-9177-4793-BD1E-1EEE074BFA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생성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reat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요구하는 우선순위의 타당성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합당하면 우선순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같은 우선순위를 가지는 태스크가 없음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스택을 생성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Init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poo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새로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얻어와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카운터를 증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기타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 작업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부동 소수점 레지스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MU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레지스터의 값을 초기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로부터 생성된 경우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롭게 생성된 태스크가 가장 우선순위가 높은 태스크이면 문맥교환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E6A2-5D0C-48DD-A5A7-9918373CC1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각의 태스크는 스택을 가지게 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으로 선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iguous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적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동적인 방법으로 생성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단편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gmentation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 발생시 힙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heap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간의 낭비 발생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1739880" y="3479760"/>
            <a:ext cx="4927680" cy="2171520"/>
            <a:chOff x="1739880" y="3479760"/>
            <a:chExt cx="4927680" cy="2171520"/>
          </a:xfrm>
        </p:grpSpPr>
        <p:sp>
          <p:nvSpPr>
            <p:cNvPr id="400" name=""/>
            <p:cNvSpPr/>
            <p:nvPr/>
          </p:nvSpPr>
          <p:spPr>
            <a:xfrm>
              <a:off x="354312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4312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4312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4312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73988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21160" y="3479760"/>
              <a:ext cx="1231920" cy="156240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21160" y="4000680"/>
              <a:ext cx="1231920" cy="520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321160" y="347976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321160" y="4521240"/>
              <a:ext cx="1231920" cy="520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8800" y="3949920"/>
              <a:ext cx="1079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 he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44640" y="356868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644640" y="41022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644640" y="462276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422680" y="356868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422680" y="4089600"/>
              <a:ext cx="102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 (1K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22680" y="4622760"/>
              <a:ext cx="102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Free(1K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930320" y="51310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695760" y="514368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 후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219640" y="51310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, C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반환 후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단편화 발생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809800" y="5438880"/>
            <a:ext cx="971640" cy="352440"/>
          </a:xfrm>
          <a:custGeom>
            <a:avLst/>
            <a:gdLst>
              <a:gd name="textAreaLeft" fmla="*/ 169920 w 971640"/>
              <a:gd name="textAreaRight" fmla="*/ 704520 w 9716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438800" y="5467320"/>
            <a:ext cx="971280" cy="352440"/>
          </a:xfrm>
          <a:custGeom>
            <a:avLst/>
            <a:gdLst>
              <a:gd name="textAreaLeft" fmla="*/ 169920 w 971280"/>
              <a:gd name="textAreaRight" fmla="*/ 704160 w 97128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ff33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C4A06-4FDD-4F0D-9463-FD5441BC05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ta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의 증가 방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낮은 메모리 주소에서 높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K_GROWTH == 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메모리 주소에서 낮은 메모리 주소로 증가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00200" y="2781360"/>
            <a:ext cx="6095880" cy="3035160"/>
            <a:chOff x="1600200" y="2781360"/>
            <a:chExt cx="6095880" cy="3035160"/>
          </a:xfrm>
        </p:grpSpPr>
        <p:sp>
          <p:nvSpPr>
            <p:cNvPr id="424" name=""/>
            <p:cNvSpPr/>
            <p:nvPr/>
          </p:nvSpPr>
          <p:spPr>
            <a:xfrm>
              <a:off x="1600200" y="2781360"/>
              <a:ext cx="6095880" cy="939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600200" y="4686480"/>
              <a:ext cx="6095880" cy="113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650960" y="2882880"/>
              <a:ext cx="599436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&amp;TaskStack[0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38360" y="4762440"/>
              <a:ext cx="5994360" cy="95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STK TaskStack[Task_STACK_SIZE]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task, pdata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&amp;TaskStack[TASK_STACK_SIZE-1], prio)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327560" y="3289320"/>
              <a:ext cx="150192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87680" y="5423040"/>
              <a:ext cx="3495600" cy="279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F226-AA4D-4241-8B1F-9B77F4AAA7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실제 사용 스택 공간 크기를 검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StkChk (INT8U prio, OS_STK_DATA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얻고자 하는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의 정보를 담고 있는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검사를 사용하기 위한 방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CREATE_EXT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CreateEx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옵션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HK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ASK_OPT_STK_CLR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Ch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을 반복 수행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택이 가장 깊게 성장했을 때의 깊이를 측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의 적절한 스택 크기를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1994040" y="2603520"/>
            <a:ext cx="5384520" cy="711360"/>
            <a:chOff x="1994040" y="2603520"/>
            <a:chExt cx="5384520" cy="711360"/>
          </a:xfrm>
        </p:grpSpPr>
        <p:sp>
          <p:nvSpPr>
            <p:cNvPr id="433" name=""/>
            <p:cNvSpPr/>
            <p:nvPr/>
          </p:nvSpPr>
          <p:spPr>
            <a:xfrm>
              <a:off x="1994040" y="2616120"/>
              <a:ext cx="5384520" cy="69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57040" y="2603520"/>
              <a:ext cx="52574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Free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 남아 잇는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T32U OSUsed;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에서 사용된 바이트의 수</a:t>
              </a: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C9BC1-A0FA-43E6-9613-99140A230D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스택 공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800280" y="1955880"/>
            <a:ext cx="7683480" cy="4025520"/>
            <a:chOff x="800280" y="1955880"/>
            <a:chExt cx="7683480" cy="4025520"/>
          </a:xfrm>
        </p:grpSpPr>
        <p:sp>
          <p:nvSpPr>
            <p:cNvPr id="437" name=""/>
            <p:cNvSpPr/>
            <p:nvPr/>
          </p:nvSpPr>
          <p:spPr>
            <a:xfrm>
              <a:off x="2616120" y="2324160"/>
              <a:ext cx="16257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616120" y="2108160"/>
              <a:ext cx="0" cy="30355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254480" y="2095560"/>
              <a:ext cx="0" cy="3035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616120" y="3593880"/>
              <a:ext cx="1650960" cy="1260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9080" y="4788000"/>
              <a:ext cx="1625400" cy="0"/>
            </a:xfrm>
            <a:prstGeom prst="line">
              <a:avLst/>
            </a:prstGeom>
            <a:ln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263760" y="2273400"/>
              <a:ext cx="27972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0.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16120" y="3581280"/>
              <a:ext cx="1625760" cy="1206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79840" y="485136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92440" y="1955880"/>
              <a:ext cx="148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4241520" y="231156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4254480" y="3568680"/>
              <a:ext cx="990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4241520" y="4788000"/>
              <a:ext cx="990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4432320" y="3835080"/>
              <a:ext cx="0" cy="749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330800" y="4127400"/>
              <a:ext cx="18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확장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32240" y="3263760"/>
              <a:ext cx="1359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실제로 스택이 최대로 확장될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067360" y="2158920"/>
              <a:ext cx="1905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Bot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69080" y="232416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30920" y="478800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2324160"/>
              <a:ext cx="0" cy="2450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58000" y="3276720"/>
              <a:ext cx="162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CBStk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283360" y="4635360"/>
              <a:ext cx="10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초기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17720" y="231156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30320" y="3568680"/>
              <a:ext cx="1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6640" y="2286000"/>
              <a:ext cx="0" cy="1295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30320" y="4788000"/>
              <a:ext cx="1652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6640" y="3556080"/>
              <a:ext cx="0" cy="1218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015920" y="2616120"/>
              <a:ext cx="10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용 가능한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015920" y="3746520"/>
              <a:ext cx="100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중인 스택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00280" y="5118120"/>
              <a:ext cx="154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P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의 현재 위치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384200" y="4178160"/>
              <a:ext cx="2412720" cy="180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4004-4283-4CF4-BD60-537FECED5F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태로 변경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Del 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에 의해 스케줄 되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른 태스크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가 되게 할 수 없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조건 검사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삭제 시도 여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 태스크의 존재 여부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부터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에 대기중인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지연 카운트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인터럽트 재개시까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준비되지 않게 하기 위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RD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A7AB-A088-4D91-888B-90E921FBB1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삭제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확장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반납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Hook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카운터 감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 순위 테이블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시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에서 삭제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spcBef>
                <a:spcPts val="4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OS_TCB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중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된 높은 우선순위의 태스크가 있을 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6ACA-6129-4F2B-B227-81D370CFD02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경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에 의해 이루어진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때 요구된 우선 순위 값은 할당되어 있지 않은 상태이어야 한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우선순위 변화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태스크가 새 우선 순위를 할당 받으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실행 준비가 되지 않으면 태스크는 새 우선 순위에서 실행될 준비가 되지 않는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 발생을 기다리면 태스크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vent 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제거되고 새 우선 순위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waiting lis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놓여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체인에서 제거되어 새 우선 순위를 받는 동안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하여 태스크가 실행 준비가 되는 것을 방지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d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X, OSTCBBitX, OSTCBY, OSTCBBit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재계산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BF0B-94E4-4F90-A0D2-70EC782818A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uspend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태스크를 명시적으로 일시 중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TaskSuspend(INT8U prio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중지시킬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Resume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실행을 재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는 태스크는 중지시키지 않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Suspend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유효한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존재하면 실행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준비 리스트에 존재하지 않으면 이벤트나 시간 종료를 기다리는 태스크이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플래그를 설정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09440-B204-40CE-9F7D-91263706F8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Resuming &amp; Tas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정보 획득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13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Resum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중지된 태스크를 실행 재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Resume(INT8U prio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재개할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Resume(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태스크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인지 검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Sta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TAT_SUSPEN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종료를 기다리고 있지 않은 태스크이므로 재개된 태스크가 현재 태스크보다 더 높은 우선순위를 가지면 스케줄러를 호출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보 획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복사해 태스크 정보를 얻는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TaskQuery(INT8U prio, OS_TCB *pdata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io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보를 얻을 태스크의 우선순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복사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입의 자료구조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임의의 시점에서의 태스크의 실행 단편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napshot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디버깅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bugging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용도로 사용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A19A-18AB-4BB3-991C-36F46C5B36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특징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태스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점형 커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ritical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섹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재진입 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커널 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관리  및 스택 공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 처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초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벤트 관리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통신과 동기화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476DF-EAF8-4B60-AF69-26DC7F6783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동적 메모리 관리 및 할당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89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램 실행시간에 필요한 만큼의 메모리 블록을 할당 받고 해제하는 기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lloc(), free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agmentation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편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연속적인 자유 메모리 블록 현상 발생 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on-deterministic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비결정적인 수행 속도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6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시간 시스템에 부적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동적 메모리 할당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연속적인 메모리 공간에서 파티션을 할당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나의 파티션은 고정된 크기의 블록들로 구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결정적인 수행속도 보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22640" y="4292280"/>
            <a:ext cx="4825800" cy="2045160"/>
            <a:chOff x="2222640" y="4292280"/>
            <a:chExt cx="4825800" cy="2045160"/>
          </a:xfrm>
        </p:grpSpPr>
        <p:sp>
          <p:nvSpPr>
            <p:cNvPr id="480" name=""/>
            <p:cNvSpPr/>
            <p:nvPr/>
          </p:nvSpPr>
          <p:spPr>
            <a:xfrm>
              <a:off x="4483080" y="4292640"/>
              <a:ext cx="1117800" cy="20448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483080" y="464832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83080" y="4991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95680" y="53341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95680" y="568944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95680" y="6019920"/>
              <a:ext cx="1105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51640" y="42926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51640" y="633744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829480" y="4292640"/>
              <a:ext cx="0" cy="2044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89240" y="601992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102200" y="568944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292640" y="5689440"/>
              <a:ext cx="0" cy="31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568944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loc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67280" y="5003640"/>
              <a:ext cx="11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art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530520" y="4292280"/>
              <a:ext cx="90180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222640" y="4597560"/>
              <a:ext cx="156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작주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3A259-474B-4B66-A9B8-08FEA0F8A82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메모리 파티션의 시행 시간 정보를 관리하는 자료구조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음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Blk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NFree : Fre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갯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모리 관리자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생성 및 메모리 블록의 할당 및 해제를 담당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OSMemIni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호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는 호출 불가능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072800" indent="-26712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FG.H&gt; OS_MEM_EN = 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되어 있어야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    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MAX_MEME_PART 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파티션의 최대 갯수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04920" y="3048120"/>
            <a:ext cx="8610480" cy="1830960"/>
            <a:chOff x="304920" y="3048120"/>
            <a:chExt cx="8610480" cy="1830960"/>
          </a:xfrm>
        </p:grpSpPr>
        <p:sp>
          <p:nvSpPr>
            <p:cNvPr id="499" name=""/>
            <p:cNvSpPr/>
            <p:nvPr/>
          </p:nvSpPr>
          <p:spPr>
            <a:xfrm>
              <a:off x="177804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16200" y="30733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77804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16200" y="33400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7804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16200" y="36068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77804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16200" y="3873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77804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16200" y="4140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708360" y="307332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4652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708360" y="334008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74652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708360" y="360684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74652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708360" y="387360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4652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08360" y="4140360"/>
              <a:ext cx="156204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74652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603840" y="307332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42000" y="307332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603840" y="334008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642000" y="334008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603840" y="360684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642000" y="360684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603840" y="387360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642000" y="387360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603840" y="4140360"/>
              <a:ext cx="1562400" cy="27144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42000" y="4140360"/>
              <a:ext cx="14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104840" y="3467160"/>
              <a:ext cx="6476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920" y="3048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104840" y="330156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7824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70400" y="3479760"/>
              <a:ext cx="343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261120" y="34797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178840" y="3492360"/>
              <a:ext cx="342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8508960" y="337824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778040" y="4444920"/>
              <a:ext cx="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66240" y="4444920"/>
              <a:ext cx="0" cy="254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778040" y="4572000"/>
              <a:ext cx="6388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33920" y="4572000"/>
              <a:ext cx="245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MEM_P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613480" y="3301920"/>
              <a:ext cx="78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FC8A5-9A38-4871-AEC2-12DE1A8AE5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MEM OSMemCreate(void *addr, INT32U nblks, INT32U blksize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파티션의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dd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blks / blksize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 내의 블록 개수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/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888840" y="3784680"/>
            <a:ext cx="7531200" cy="2072160"/>
            <a:chOff x="888840" y="3784680"/>
            <a:chExt cx="7531200" cy="2072160"/>
          </a:xfrm>
        </p:grpSpPr>
        <p:sp>
          <p:nvSpPr>
            <p:cNvPr id="545" name=""/>
            <p:cNvSpPr/>
            <p:nvPr/>
          </p:nvSpPr>
          <p:spPr>
            <a:xfrm>
              <a:off x="5384880" y="38224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334120" y="378468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384880" y="41274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334120" y="4089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84880" y="44319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334120" y="4394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384880" y="473688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334120" y="4698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384880" y="5041800"/>
              <a:ext cx="1031760" cy="304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34120" y="5003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384880" y="534636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334120" y="5308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895800" y="3822480"/>
              <a:ext cx="5713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175520" y="4470120"/>
              <a:ext cx="1244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ontiguous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9" name=""/>
            <p:cNvCxnSpPr/>
            <p:nvPr/>
          </p:nvCxnSpPr>
          <p:spPr>
            <a:xfrm>
              <a:off x="6413040" y="4165200"/>
              <a:ext cx="2520" cy="30492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0" name=""/>
            <p:cNvCxnSpPr/>
            <p:nvPr/>
          </p:nvCxnSpPr>
          <p:spPr>
            <a:xfrm>
              <a:off x="6413040" y="449568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1" name=""/>
            <p:cNvCxnSpPr/>
            <p:nvPr/>
          </p:nvCxnSpPr>
          <p:spPr>
            <a:xfrm>
              <a:off x="6413040" y="482580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562" name=""/>
            <p:cNvCxnSpPr/>
            <p:nvPr/>
          </p:nvCxnSpPr>
          <p:spPr>
            <a:xfrm>
              <a:off x="6413040" y="5155920"/>
              <a:ext cx="2520" cy="30528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563" name=""/>
            <p:cNvSpPr/>
            <p:nvPr/>
          </p:nvSpPr>
          <p:spPr>
            <a:xfrm>
              <a:off x="6286680" y="5422680"/>
              <a:ext cx="469800" cy="177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91240" y="554976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35240" y="415260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73400" y="415260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35240" y="441936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73400" y="441936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235240" y="468612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273400" y="468612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Bl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235240" y="495288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273400" y="495288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Blk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235240" y="5219640"/>
              <a:ext cx="1562040" cy="2710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73400" y="5219640"/>
              <a:ext cx="144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N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413080" y="3809880"/>
              <a:ext cx="11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683160" y="3898800"/>
              <a:ext cx="1689120" cy="4060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708360" y="3974760"/>
              <a:ext cx="1663920" cy="583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638360" y="427968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88840" y="411480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908760" y="5613120"/>
              <a:ext cx="571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099200" y="3822120"/>
              <a:ext cx="0" cy="1790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2" name=""/>
            <p:cNvCxnSpPr/>
            <p:nvPr/>
          </p:nvCxnSpPr>
          <p:spPr>
            <a:xfrm>
              <a:off x="6413040" y="3860640"/>
              <a:ext cx="252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B9C8-25C5-4C35-BA7D-F4A7334C940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oid *OSMemGet(OS_MEM *pmem, INT8U *err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mem : M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할당된 메모리 블록의 주소 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Put(OS_MEM *pmem, void *pblk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 해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k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에러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31640" y="4216320"/>
            <a:ext cx="8712360" cy="2135880"/>
            <a:chOff x="431640" y="4216320"/>
            <a:chExt cx="8712360" cy="2135880"/>
          </a:xfrm>
        </p:grpSpPr>
        <p:sp>
          <p:nvSpPr>
            <p:cNvPr id="586" name=""/>
            <p:cNvSpPr/>
            <p:nvPr/>
          </p:nvSpPr>
          <p:spPr>
            <a:xfrm>
              <a:off x="1790640" y="4699080"/>
              <a:ext cx="2514600" cy="116820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181160" y="4889520"/>
              <a:ext cx="609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31640" y="4724280"/>
              <a:ext cx="8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m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790640" y="50673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546084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629080" y="4317840"/>
              <a:ext cx="81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M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27200" y="476244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27200" y="552456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28800" y="5118120"/>
              <a:ext cx="24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MemFreeList = add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4076640" y="4610160"/>
              <a:ext cx="144792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37160" y="42544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86400" y="42163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37160" y="45594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486400" y="45212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37160" y="48639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486400" y="48261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537160" y="516888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486400" y="513072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537160" y="5473800"/>
              <a:ext cx="1031760" cy="30456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6400" y="543564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37160" y="5778360"/>
              <a:ext cx="1031760" cy="3049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486400" y="5740560"/>
              <a:ext cx="115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……………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6603480" y="4267080"/>
              <a:ext cx="8766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0760" y="4280040"/>
              <a:ext cx="18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당된 메모리 블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0" name=""/>
            <p:cNvCxnSpPr/>
            <p:nvPr/>
          </p:nvCxnSpPr>
          <p:spPr>
            <a:xfrm>
              <a:off x="6566040" y="459756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1" name=""/>
            <p:cNvCxnSpPr/>
            <p:nvPr/>
          </p:nvCxnSpPr>
          <p:spPr>
            <a:xfrm>
              <a:off x="6566040" y="4927680"/>
              <a:ext cx="2160" cy="305280"/>
            </a:xfrm>
            <a:prstGeom prst="bentConnector3">
              <a:avLst>
                <a:gd name="adj1" fmla="val 96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2" name=""/>
            <p:cNvCxnSpPr/>
            <p:nvPr/>
          </p:nvCxnSpPr>
          <p:spPr>
            <a:xfrm>
              <a:off x="6566040" y="525744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cxnSp>
          <p:nvCxnSpPr>
            <p:cNvPr id="613" name=""/>
            <p:cNvCxnSpPr/>
            <p:nvPr/>
          </p:nvCxnSpPr>
          <p:spPr>
            <a:xfrm>
              <a:off x="6566040" y="5587560"/>
              <a:ext cx="2160" cy="305640"/>
            </a:xfrm>
            <a:prstGeom prst="bentConnector3">
              <a:avLst>
                <a:gd name="adj1" fmla="val 11200000"/>
              </a:avLst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6438960" y="5854680"/>
              <a:ext cx="1054080" cy="2793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378560" y="6045120"/>
              <a:ext cx="4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A826C-A7CE-4A99-9ACA-E4E01F87C87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모리 관련 함수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3911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8U OSMemQuery (OS_MEM *pmem,    OS_MEM_DATA *pdata);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부터 얻어내는 파티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환되는 파티션 정보의 구조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tur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NO_ER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EM_DATA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정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티션의 시작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주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크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emory block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개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A54A-701B-4E34-AB24-3F845E06C96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통한 메모리 공유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간 메모리 블록 공유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사용하여 메모리 블록에 대한 공유를 상호 배제 시킨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346040" y="2806560"/>
            <a:ext cx="4597560" cy="193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409760" y="2870280"/>
            <a:ext cx="442440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end(SemaphorePtr, 0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block = OSMemGet(PartitionPtr, &amp;er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모리 블록을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Put(PartitionPtr, pblock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Post(SemaphorePt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F34DC-8BC8-4814-9B6C-C6D68F7F4D6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발생이 확인되면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저장하고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Service Routine(ISR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 분기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완료되면 프로그램은 실행 준비가 된 태스크 중 가장 우선 순위가 높은 것으로 돌아간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rupt Nesting)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진행 도중 다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발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Lock/Unlock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 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될 때까지 태스크 스케줄링을 막는 역할을 하며 두 함수는 함께 쓰인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: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중첩을 위해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 호출된 횟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Unlock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LockNesting =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스케줄러를 호출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BD9DD-A67E-41EB-9146-D78281269EE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460520" y="1676520"/>
            <a:ext cx="6134040" cy="3705480"/>
            <a:chOff x="1460520" y="1676520"/>
            <a:chExt cx="6134040" cy="3705480"/>
          </a:xfrm>
        </p:grpSpPr>
        <p:sp>
          <p:nvSpPr>
            <p:cNvPr id="626" name=""/>
            <p:cNvSpPr/>
            <p:nvPr/>
          </p:nvSpPr>
          <p:spPr>
            <a:xfrm>
              <a:off x="1460520" y="1981080"/>
              <a:ext cx="6134040" cy="12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73400" y="2260440"/>
              <a:ext cx="0" cy="23115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390840" y="22604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076640" y="2247840"/>
              <a:ext cx="0" cy="21081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5338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814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26080" y="2247840"/>
              <a:ext cx="0" cy="209556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350040" y="2247840"/>
              <a:ext cx="0" cy="212112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273400" y="2540160"/>
              <a:ext cx="11174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78240" y="28576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76640" y="32767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21240" y="3683160"/>
              <a:ext cx="66024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168880" y="3289320"/>
              <a:ext cx="4698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651640" y="2882880"/>
              <a:ext cx="69840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62640" y="2540160"/>
              <a:ext cx="990720" cy="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05240" y="16765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시 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473120" y="2387520"/>
              <a:ext cx="93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486080" y="273060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486080" y="314964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486080" y="3556080"/>
              <a:ext cx="93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90920" y="4673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556080" y="4889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97560" y="5105520"/>
              <a:ext cx="99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3200400" y="4432320"/>
              <a:ext cx="165240" cy="241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4076640" y="44323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flipV="1">
              <a:off x="4533840" y="4419720"/>
              <a:ext cx="419040" cy="660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B489-58C2-4C68-881C-4F6F9F66F4A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ISR (Interrupt Service Routine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통 어셈블리어로 작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현재 태스크 스택에 저장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nter( 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서비스를 위한 사용자 코드 실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tExit( 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레지스터를 복원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인터럽트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으로부터 복귀를 수행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29479-C90C-4D76-BCE3-2B55F877F6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로부터의 복귀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749160" y="1612800"/>
            <a:ext cx="8128080" cy="3619440"/>
            <a:chOff x="749160" y="1612800"/>
            <a:chExt cx="8128080" cy="3619440"/>
          </a:xfrm>
        </p:grpSpPr>
        <p:sp>
          <p:nvSpPr>
            <p:cNvPr id="656" name=""/>
            <p:cNvSpPr/>
            <p:nvPr/>
          </p:nvSpPr>
          <p:spPr>
            <a:xfrm>
              <a:off x="2705040" y="16383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7920" y="1625760"/>
              <a:ext cx="0" cy="3593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705040" y="1968480"/>
              <a:ext cx="2882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705040" y="229860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717640" y="2641680"/>
              <a:ext cx="2870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717640" y="3009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717640" y="40006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717640" y="436896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717640" y="4724280"/>
              <a:ext cx="2857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806560" y="199404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806560" y="2349360"/>
              <a:ext cx="2705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819520" y="2692440"/>
              <a:ext cx="27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로부터의 리턴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908440" y="34164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레지스터 정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921040" y="405144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인터럽트 복귀 주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921040" y="441972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rocessor Status 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908440" y="4788000"/>
              <a:ext cx="2489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상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46240" y="1638360"/>
              <a:ext cx="248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하위 메모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2451240" y="4355640"/>
              <a:ext cx="0" cy="86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49160" y="4648320"/>
              <a:ext cx="1854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스택이 증가하는 방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26080" y="1955880"/>
              <a:ext cx="393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006960" y="1943280"/>
              <a:ext cx="0" cy="1091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>
              <a:off x="5613120" y="3022560"/>
              <a:ext cx="406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842080" y="3683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727600" y="303516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af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638680" y="161280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PU’s SP (befor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38680" y="1994040"/>
              <a:ext cx="119160" cy="279360"/>
            </a:xfrm>
            <a:custGeom>
              <a:avLst/>
              <a:gdLst>
                <a:gd name="textAreaLeft" fmla="*/ 0 w 119160"/>
                <a:gd name="textAreaRight" fmla="*/ 83520 w 1191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638680" y="231156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638680" y="2666880"/>
              <a:ext cx="106560" cy="279360"/>
            </a:xfrm>
            <a:custGeom>
              <a:avLst/>
              <a:gdLst>
                <a:gd name="textAreaLeft" fmla="*/ 0 w 106560"/>
                <a:gd name="textAreaRight" fmla="*/ 74880 w 106560"/>
                <a:gd name="textAreaTop" fmla="*/ 11520 h 279360"/>
                <a:gd name="textAreaBottom" fmla="*/ 267840 h 27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638680" y="3073320"/>
              <a:ext cx="127080" cy="1650960"/>
            </a:xfrm>
            <a:custGeom>
              <a:avLst/>
              <a:gdLst>
                <a:gd name="textAreaLeft" fmla="*/ 0 w 127080"/>
                <a:gd name="textAreaRight" fmla="*/ 89280 w 127080"/>
                <a:gd name="textAreaTop" fmla="*/ 68760 h 1650960"/>
                <a:gd name="textAreaBottom" fmla="*/ 1582200 h 165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5651280" y="1866960"/>
              <a:ext cx="3934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94360" y="20066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CtxSw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94360" y="2349360"/>
              <a:ext cx="2882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NTER_CRITICAL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94360" y="269244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tExi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 의해 저장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67A44-06B1-46B7-9338-266018A48A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시작하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1992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ean J. Labross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만든 실시간 운영체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Micro Controller Operating System Version 2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학교나 개인의 교육과 같은 비상업적 목적에 한해 자유로이 사용 가능한 공개소스로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코드의 수정 및 커널의 내부 구조를 이해하기 용이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용도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종 장비 개발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 사이트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1"/>
              </a:rPr>
              <a:t>www.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2"/>
              </a:rPr>
              <a:t>ucos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  <a:ea typeface="굴림"/>
                <a:hlinkClick r:id="rId3"/>
              </a:rPr>
              <a:t>-ii.com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스 다운로드 가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업적인 목적에 사용될 경우 라이센스를 따로 얻어야 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1BAC-262B-4868-88A2-8D00D4B339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적으로 발생하는 인터럽트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일정 수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동안 태스크가 실행을 중단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uspend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하거나 이벤트의 발생을 대기하도록 할 수 있음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주기가 빨라지면 그만큼 오버헤드도 커진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TCBDly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nonzero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값이면 감소시킨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0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이 되면 태스크는 실행될 준비가 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는 멀티태스킹이 시작된 후에 가능하게 만들어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OSStart()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호출 후 첫 번째 태스크에서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icker interrupt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를 초기화하여야 한다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9319A-4F30-4166-8358-EBC3FFE83F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lock Tick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imeTick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Hook(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레벨에서 긴급한 일을 수행할 기회 제공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Dly field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값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큼 감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일 이 값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되면 그 태스크를 준비 상태로 바꾼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++ : unsigned 32-bi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간 변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스템 시작 후 경과 시간을 계속 증가시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실행 시간은 태스크의 수에 비례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939960" y="1295280"/>
            <a:ext cx="7315200" cy="25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03320" y="1320840"/>
            <a:ext cx="7200720" cy="24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void OSTickISR (voi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av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nter() or increment OSIntNest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TimeTick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Call OSIntExit(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store processor register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Execute a return from interrupt instruction;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F8689-BED3-4BE1-9327-FA68ACF418E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호출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.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에 다음과 같은 것들이 설정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K_SIZE : idle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크기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yte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나타낸 것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 : 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제어할 수 있는 태스크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최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생성할 메시지 큐의 최대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호출 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호출하게 되면 멀티태스킹이 시작됨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1114560" y="3772080"/>
            <a:ext cx="7124040" cy="2237400"/>
            <a:chOff x="1114560" y="3772080"/>
            <a:chExt cx="7124040" cy="2237400"/>
          </a:xfrm>
        </p:grpSpPr>
        <p:sp>
          <p:nvSpPr>
            <p:cNvPr id="698" name=""/>
            <p:cNvSpPr/>
            <p:nvPr/>
          </p:nvSpPr>
          <p:spPr>
            <a:xfrm>
              <a:off x="1114560" y="3772080"/>
              <a:ext cx="6951240" cy="2234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77560" y="3772080"/>
              <a:ext cx="7061040" cy="223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main (void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Init(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모든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uC/OS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변수들과 자료구조들을 초기화시킴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혹은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TaskCreateExt( )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적어도 하나의 사용중인 태스크를 생성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;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…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;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/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멀티 태스킹을 시작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( )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은 반환하지 않는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*/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	</a:t>
              </a: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517400" y="4431960"/>
              <a:ext cx="8330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530000" y="5714640"/>
              <a:ext cx="1020240" cy="27900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2" name=""/>
            <p:cNvCxnSpPr>
              <a:stCxn id="700" idx="1"/>
              <a:endCxn id="701" idx="1"/>
            </p:cNvCxnSpPr>
            <p:nvPr/>
          </p:nvCxnSpPr>
          <p:spPr>
            <a:xfrm flipH="1" flipV="1" rot="10800000">
              <a:off x="1502640" y="4571280"/>
              <a:ext cx="12960" cy="1283040"/>
            </a:xfrm>
            <a:prstGeom prst="curvedConnector5">
              <a:avLst>
                <a:gd name="adj1" fmla="val -1685714"/>
                <a:gd name="adj2" fmla="val 49985"/>
                <a:gd name="adj3" fmla="val -1685714"/>
              </a:avLst>
            </a:prstGeom>
            <a:ln w="22320">
              <a:solidFill>
                <a:srgbClr val="000000"/>
              </a:solidFill>
              <a:miter/>
              <a:tailEnd len="lg" type="stealth" w="sm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BECEA-1151-484B-B55A-4A68D0C7C88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Ini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인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Idle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항상 준비상태에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가장 낮음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선택적으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at(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는 항상 두 번째로 낮다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제어 블록 리스트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CBList)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구성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Idle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at(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중 연결 리스트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ree data structure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생성 – 포인터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CBFreeList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길이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FreeList (OS_MAX_EVENT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FreeList (OS_MAX_Q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emFreeList (OS_MAX_MEM_PAR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1D9E-A5F8-4497-9808-C9E5BA696DC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nitialization 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가장 우선순위가 높은 태스크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T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찾아서 그 태스크를 수행시킨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종료 후 다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tart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돌아오지 않는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화 변수의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5D36E-C72B-4A6D-B21B-59373879B76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vent Control Block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공유 데이터의 보호와 태스크간의 통신을 위해 제공하는 세가지 서비스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 제어 블록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인터럽트 서비스 루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혹은 태스크와 태스크간에 어떻게 서로 상호작용 하는지를 보여준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이벤트 제어 블록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고 불리는 커널 객체를 통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주고 받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세마포어가 될 수도 있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나 메시지 큐가 될 수도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FB59C-8207-4CCD-9AE3-6432CA69603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사용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231920" y="1536840"/>
            <a:ext cx="6426360" cy="4358160"/>
            <a:chOff x="1231920" y="1536840"/>
            <a:chExt cx="6426360" cy="4358160"/>
          </a:xfrm>
        </p:grpSpPr>
        <p:sp>
          <p:nvSpPr>
            <p:cNvPr id="711" name=""/>
            <p:cNvSpPr/>
            <p:nvPr/>
          </p:nvSpPr>
          <p:spPr>
            <a:xfrm>
              <a:off x="1231920" y="153684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574640" y="1676520"/>
              <a:ext cx="1079640" cy="469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587600" y="2235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880240" y="1689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892840" y="2260440"/>
              <a:ext cx="107964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797280" y="168912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717640" y="191772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717640" y="2476440"/>
              <a:ext cx="10288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75040" y="1917720"/>
              <a:ext cx="106704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788000" y="2476440"/>
              <a:ext cx="10540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1" name=""/>
            <p:cNvGrpSpPr/>
            <p:nvPr/>
          </p:nvGrpSpPr>
          <p:grpSpPr>
            <a:xfrm>
              <a:off x="4927680" y="1963440"/>
              <a:ext cx="177840" cy="182880"/>
              <a:chOff x="4927680" y="1963440"/>
              <a:chExt cx="177840" cy="182880"/>
            </a:xfrm>
          </p:grpSpPr>
          <p:sp>
            <p:nvSpPr>
              <p:cNvPr id="722" name=""/>
              <p:cNvSpPr/>
              <p:nvPr/>
            </p:nvSpPr>
            <p:spPr>
              <a:xfrm>
                <a:off x="4927680" y="20581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927680" y="196308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4940280" y="2534760"/>
              <a:ext cx="177840" cy="182880"/>
              <a:chOff x="4940280" y="2534760"/>
              <a:chExt cx="177840" cy="182880"/>
            </a:xfrm>
          </p:grpSpPr>
          <p:sp>
            <p:nvSpPr>
              <p:cNvPr id="725" name=""/>
              <p:cNvSpPr/>
              <p:nvPr/>
            </p:nvSpPr>
            <p:spPr>
              <a:xfrm>
                <a:off x="4940280" y="26294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940280" y="25344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3873600" y="173988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76520" y="1752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6520" y="231156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717640" y="15746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717640" y="2120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26160" y="15746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826160" y="21463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006960" y="2336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006960" y="176544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188120" y="2019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31920" y="2895480"/>
              <a:ext cx="6426360" cy="129564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4640" y="3035160"/>
              <a:ext cx="1079640" cy="47016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87600" y="359424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880240" y="3048120"/>
              <a:ext cx="107928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892840" y="361944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692440" y="328932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692440" y="3619440"/>
              <a:ext cx="1092240" cy="216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4749840" y="3289320"/>
              <a:ext cx="1092240" cy="2412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749840" y="3568680"/>
              <a:ext cx="1092240" cy="2541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76520" y="3111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76520" y="3670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717640" y="30225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717640" y="3772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Sign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838760" y="30607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838760" y="375912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006960" y="369576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006960" y="3124080"/>
              <a:ext cx="87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188120" y="3378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231920" y="4254480"/>
              <a:ext cx="6426360" cy="129528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574640" y="4394160"/>
              <a:ext cx="1079640" cy="46980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587600" y="4952880"/>
              <a:ext cx="1079280" cy="4701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654280" y="4648320"/>
              <a:ext cx="1104840" cy="228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2692440" y="4965480"/>
              <a:ext cx="1066680" cy="215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676520" y="44704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76520" y="502920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552760" y="430524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188120" y="4737240"/>
              <a:ext cx="38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797280" y="226044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73600" y="231156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797280" y="3327480"/>
              <a:ext cx="928800" cy="407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873600" y="33782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797280" y="4724280"/>
              <a:ext cx="928800" cy="408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873600" y="4775040"/>
              <a:ext cx="82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EC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0" name=""/>
            <p:cNvGrpSpPr/>
            <p:nvPr/>
          </p:nvGrpSpPr>
          <p:grpSpPr>
            <a:xfrm>
              <a:off x="3594240" y="4566960"/>
              <a:ext cx="177840" cy="182880"/>
              <a:chOff x="3594240" y="4566960"/>
              <a:chExt cx="177840" cy="182880"/>
            </a:xfrm>
          </p:grpSpPr>
          <p:sp>
            <p:nvSpPr>
              <p:cNvPr id="771" name=""/>
              <p:cNvSpPr/>
              <p:nvPr/>
            </p:nvSpPr>
            <p:spPr>
              <a:xfrm>
                <a:off x="3594240" y="466164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3594240" y="45666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3" name=""/>
            <p:cNvGrpSpPr/>
            <p:nvPr/>
          </p:nvGrpSpPr>
          <p:grpSpPr>
            <a:xfrm>
              <a:off x="3606840" y="5100480"/>
              <a:ext cx="177840" cy="182520"/>
              <a:chOff x="3606840" y="5100480"/>
              <a:chExt cx="177840" cy="182520"/>
            </a:xfrm>
          </p:grpSpPr>
          <p:sp>
            <p:nvSpPr>
              <p:cNvPr id="774" name=""/>
              <p:cNvSpPr/>
              <p:nvPr/>
            </p:nvSpPr>
            <p:spPr>
              <a:xfrm>
                <a:off x="3606840" y="519480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3606840" y="510048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6" name=""/>
            <p:cNvSpPr/>
            <p:nvPr/>
          </p:nvSpPr>
          <p:spPr>
            <a:xfrm>
              <a:off x="2552760" y="5245200"/>
              <a:ext cx="1422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/ Sign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6311880" y="5646600"/>
              <a:ext cx="177840" cy="182520"/>
              <a:chOff x="6311880" y="5646600"/>
              <a:chExt cx="177840" cy="182520"/>
            </a:xfrm>
          </p:grpSpPr>
          <p:sp>
            <p:nvSpPr>
              <p:cNvPr id="778" name=""/>
              <p:cNvSpPr/>
              <p:nvPr/>
            </p:nvSpPr>
            <p:spPr>
              <a:xfrm>
                <a:off x="6311880" y="5740920"/>
                <a:ext cx="177840" cy="882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11880" y="5646600"/>
                <a:ext cx="177840" cy="885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" name=""/>
            <p:cNvSpPr/>
            <p:nvPr/>
          </p:nvSpPr>
          <p:spPr>
            <a:xfrm>
              <a:off x="6438960" y="5587920"/>
              <a:ext cx="113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7B80-FF06-4FA1-A62C-4E26294B3B4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기술되어 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자료구조에 유지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1503360" y="2438280"/>
          <a:ext cx="4910040" cy="2260800"/>
        </p:xfrm>
        <a:graphic>
          <a:graphicData uri="http://schemas.openxmlformats.org/drawingml/2006/table">
            <a:tbl>
              <a:tblPr/>
              <a:tblGrid>
                <a:gridCol w="4910040"/>
              </a:tblGrid>
              <a:tr h="226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typedef struct 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void     *OSEventPtr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bl[OS_EVENT_TBL_SIZE]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16U OSEventC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Type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INT8U   OSEventGrp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고딕"/>
                        </a:rPr>
                        <a:t>} OS_EVEN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0880"/>
                          <a:tab algn="l" pos="762120"/>
                          <a:tab algn="l" pos="1143000"/>
                          <a:tab algn="l" pos="1523880"/>
                          <a:tab algn="l" pos="1905120"/>
                          <a:tab algn="l" pos="2286000"/>
                          <a:tab algn="l" pos="2666880"/>
                          <a:tab algn="l" pos="3048120"/>
                          <a:tab algn="l" pos="3429000"/>
                          <a:tab algn="l" pos="3809880"/>
                          <a:tab algn="l" pos="4191120"/>
                          <a:tab algn="l" pos="4572000"/>
                          <a:tab algn="l" pos="4952880"/>
                          <a:tab algn="l" pos="5334120"/>
                          <a:tab algn="l" pos="5715000"/>
                          <a:tab algn="l" pos="6095880"/>
                          <a:tab algn="l" pos="6477120"/>
                          <a:tab algn="l" pos="6858000"/>
                          <a:tab algn="l" pos="7238880"/>
                          <a:tab algn="l" pos="76201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2AAE9-242F-4524-98E3-1CFE8757B1E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자료구조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Ptr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메일박스나 큐일 때만 사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로 사용 시에는 메시지를 가리키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로 사용 시에는 큐 자료구조를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Cn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세마포어로 사용될 때 세마포어의 카운트를 갖고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yp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연관된 타입을 가리킨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여기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_SEM, OS_EVENT_TYPE_MBOX, OS_EVENT_TYPE_Q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값들이 올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를 기다리는 태스크들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포함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C3BFA-0580-4CA3-88FB-7ED5F79DF34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의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기를 기다리는 각각의 태스크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Tbl[ ]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두 변수로 구성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a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에 위치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우선순위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그룹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한 그룹에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8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되어 있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EventGrp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각각의 비트는 그 그룹의 태스크가 이벤트를 기다리고 있는지를 나타낸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했을 때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그 이벤트를 기다리는 태스크 중 우선순위가 가장 높은 태스크가 시작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002E9-C65D-4410-B417-FE379C044FC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ortable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 코드의 대부분이 이식 가능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ANSI C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기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일부 마이크로프로세서에 국한된 부분은  어셈블러로 코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OMable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해당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파일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어셈블러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링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더가 필요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이나 응용프로그램에 따라 메모리의 크기를 자유로이 결정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emptive Schedul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높은 우선 순위 작업이 먼저 수행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l-Time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빠른 응답성을 갖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tasking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독자적 우선순위를 가지는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0C86B-D893-4BF0-82AD-7C98E331ED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787320" y="1206360"/>
            <a:ext cx="8382240" cy="5085000"/>
            <a:chOff x="787320" y="1206360"/>
            <a:chExt cx="8382240" cy="5085000"/>
          </a:xfrm>
        </p:grpSpPr>
        <p:sp>
          <p:nvSpPr>
            <p:cNvPr id="790" name=""/>
            <p:cNvSpPr/>
            <p:nvPr/>
          </p:nvSpPr>
          <p:spPr>
            <a:xfrm>
              <a:off x="4737240" y="5530680"/>
              <a:ext cx="443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하위 우선순위 태스크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dle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로서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,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wait 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할 수 없다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"/>
            <p:cNvGrpSpPr/>
            <p:nvPr/>
          </p:nvGrpSpPr>
          <p:grpSpPr>
            <a:xfrm>
              <a:off x="4851360" y="2249640"/>
              <a:ext cx="3139920" cy="2849040"/>
              <a:chOff x="4851360" y="2249640"/>
              <a:chExt cx="3139920" cy="2849040"/>
            </a:xfrm>
          </p:grpSpPr>
          <p:sp>
            <p:nvSpPr>
              <p:cNvPr id="792" name=""/>
              <p:cNvSpPr/>
              <p:nvPr/>
            </p:nvSpPr>
            <p:spPr>
              <a:xfrm>
                <a:off x="7597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205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12640" y="4741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64206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282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6358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24340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851360" y="4741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597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205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812640" y="43851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206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282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6358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24340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851360" y="43851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97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205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812640" y="40294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4206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0282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6358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4340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851360" y="40294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7597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205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12640" y="3673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64206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0282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6358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24340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4851360" y="3673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7597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7205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812640" y="3317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64206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60282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6358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24340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851360" y="3317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7597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205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812640" y="2961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4206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282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6358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24340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851360" y="2961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7597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05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812640" y="2605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206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0282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6358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4340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4851360" y="2605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97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05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812640" y="22496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64206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0282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6358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24340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51360" y="22496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4851360" y="22496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4851360" y="2605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4851360" y="2961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4851360" y="3317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4851360" y="3673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4851360" y="40294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851360" y="43851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851360" y="4741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851360" y="509724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851360" y="2249640"/>
                <a:ext cx="144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2434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6358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0282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2060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812640" y="2249640"/>
                <a:ext cx="144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72054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7597800" y="2249640"/>
                <a:ext cx="1080" cy="28476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7990200" y="2249640"/>
                <a:ext cx="1080" cy="28476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"/>
            <p:cNvSpPr/>
            <p:nvPr/>
          </p:nvSpPr>
          <p:spPr>
            <a:xfrm>
              <a:off x="36100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4180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871720" y="1487520"/>
              <a:ext cx="3700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50344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13516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66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397160" y="1487520"/>
              <a:ext cx="36972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028880" y="1487520"/>
              <a:ext cx="368280" cy="3063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028880" y="1487520"/>
              <a:ext cx="2949480" cy="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028880" y="1793880"/>
              <a:ext cx="2949480" cy="0"/>
            </a:xfrm>
            <a:prstGeom prst="line">
              <a:avLst/>
            </a:prstGeom>
            <a:ln cap="sq" w="284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02888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397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7668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3516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0344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7172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180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610080" y="1487520"/>
              <a:ext cx="0" cy="3063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978360" y="1487520"/>
              <a:ext cx="0" cy="3063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243320" y="219060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3800160" y="239076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3787920" y="1780920"/>
              <a:ext cx="0" cy="6094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3446280" y="275256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3446640" y="176832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3104640" y="3116160"/>
              <a:ext cx="1163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3105000" y="1781280"/>
              <a:ext cx="0" cy="1334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2724120" y="345600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2711520" y="176832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2331720" y="380844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2332080" y="1780920"/>
              <a:ext cx="0" cy="2027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1939680" y="418320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1940040" y="178092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1611000" y="452268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1598760" y="1780920"/>
              <a:ext cx="0" cy="274140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1244520" y="488628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1244520" y="1781280"/>
              <a:ext cx="0" cy="30938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28880" y="1206360"/>
              <a:ext cx="290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230720" y="1417680"/>
              <a:ext cx="394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OS_LOWEST_PRIO / 8+1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63960" y="2050920"/>
              <a:ext cx="0" cy="16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978680" y="2062080"/>
              <a:ext cx="0" cy="163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876920" y="2108160"/>
              <a:ext cx="1341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>
              <a:off x="6559200" y="2108160"/>
              <a:ext cx="1406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243480" y="1932120"/>
              <a:ext cx="34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8180280" y="2249640"/>
              <a:ext cx="31608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028000" y="5086440"/>
              <a:ext cx="442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345520" y="2260440"/>
              <a:ext cx="0" cy="125424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45520" y="3808440"/>
              <a:ext cx="0" cy="12780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8193240" y="3479760"/>
              <a:ext cx="31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472080" y="166212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최상위 우선 순위 태스크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459640" y="1781280"/>
              <a:ext cx="239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8002440" y="1781280"/>
              <a:ext cx="696960" cy="593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4873680" y="5108400"/>
              <a:ext cx="29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가 발생하기를 기다리는 태스크들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>
              <a:off x="4547880" y="5659560"/>
              <a:ext cx="3920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548240" y="5086440"/>
              <a:ext cx="430200" cy="573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98764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67336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359080" y="5219640"/>
              <a:ext cx="314280" cy="2937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04480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730520" y="5219640"/>
              <a:ext cx="31428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15880" y="5219640"/>
              <a:ext cx="314640" cy="2937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10160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87320" y="5219640"/>
              <a:ext cx="314280" cy="293760"/>
            </a:xfrm>
            <a:prstGeom prst="rect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7320" y="5219640"/>
              <a:ext cx="2514600" cy="180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87320" y="5513400"/>
              <a:ext cx="2514600" cy="144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73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0160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1588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73052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04480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35908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673360" y="5219640"/>
              <a:ext cx="144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987640" y="5219640"/>
              <a:ext cx="1800" cy="29376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301920" y="5219640"/>
              <a:ext cx="1800" cy="293760"/>
            </a:xfrm>
            <a:prstGeom prst="line">
              <a:avLst/>
            </a:prstGeom>
            <a:ln cap="sq"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193760" y="4940280"/>
              <a:ext cx="175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의 우선순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51240" y="5575320"/>
              <a:ext cx="774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486080" y="5575320"/>
              <a:ext cx="7999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819520" y="5575320"/>
              <a:ext cx="0" cy="16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892160" y="5575320"/>
              <a:ext cx="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13080" y="5664240"/>
              <a:ext cx="2654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Tbl[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892160" y="5892840"/>
              <a:ext cx="2159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서의 비트위치 동시에 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 ]</a:t>
              </a:r>
              <a:r>
                <a:rPr b="1" lang="ko-KR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에의 </a:t>
              </a:r>
              <a:r>
                <a:rPr b="1" lang="en-US" sz="10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nde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F578F-281B-49C5-9488-714D667CBEA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할당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수는 응용프로그램에서 요구되는 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의 수에 따라 다르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정의된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fine OS_MAX_EVENT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명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INIT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호출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ee EC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리스트라 불리는 하나의 연결 리스트에 연결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일박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큐가 생성되면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이 리스트로부터 삭제되고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초기화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55600" y="3530520"/>
            <a:ext cx="7378920" cy="2618280"/>
            <a:chOff x="1155600" y="3530520"/>
            <a:chExt cx="7378920" cy="2618280"/>
          </a:xfrm>
        </p:grpSpPr>
        <p:sp>
          <p:nvSpPr>
            <p:cNvPr id="957" name=""/>
            <p:cNvSpPr/>
            <p:nvPr/>
          </p:nvSpPr>
          <p:spPr>
            <a:xfrm>
              <a:off x="166536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91304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04480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836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086280" y="4336920"/>
              <a:ext cx="14256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216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836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0338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829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413240" y="4400640"/>
              <a:ext cx="698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0338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218200" y="4272120"/>
              <a:ext cx="63972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467320" y="4336920"/>
              <a:ext cx="14148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597640" y="4400640"/>
              <a:ext cx="531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218200" y="4519440"/>
              <a:ext cx="63972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6272280" y="4400640"/>
              <a:ext cx="7570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161120" y="4272120"/>
              <a:ext cx="638280" cy="2473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408800" y="4336920"/>
              <a:ext cx="142920" cy="128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539120" y="4400640"/>
              <a:ext cx="676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161120" y="4519440"/>
              <a:ext cx="638280" cy="1030320"/>
            </a:xfrm>
            <a:prstGeom prst="rect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78840" y="4292640"/>
              <a:ext cx="35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368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99400" y="5872320"/>
              <a:ext cx="0" cy="226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836800" y="5979960"/>
              <a:ext cx="1730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070680" y="5979960"/>
              <a:ext cx="17287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529160" y="5872320"/>
              <a:ext cx="16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EV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155600" y="3787920"/>
              <a:ext cx="1693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397640" y="3659040"/>
              <a:ext cx="212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7291440" y="3659040"/>
              <a:ext cx="318960" cy="547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189840" y="353052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93545-4AD6-4876-877A-975AC44D12D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관련 함수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수행되는 네 가지 공통 연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초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나 메시지 메일 박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가 생성될 때 불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OS_EVENT *pevent, void *msg, INT8U msk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부터 가장 높은 우선순위의 태스크를 제거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그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 보내질 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k : OSTCBSta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lear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한 비트 마스크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askWai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가 이벤트를 기다리도록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현재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위치시키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To(OS_EVENT * 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이벤트 대기시 타임아웃이 발생했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즉 정해진 기한 내에 신호를 받지 않으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imeTick( 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기다리고 있는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드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24A86-9919-43F6-B1ED-AC8917E4AD9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ready to run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90" name=""/>
          <p:cNvGrpSpPr/>
          <p:nvPr/>
        </p:nvGrpSpPr>
        <p:grpSpPr>
          <a:xfrm>
            <a:off x="762120" y="1320840"/>
            <a:ext cx="7835760" cy="4965120"/>
            <a:chOff x="762120" y="1320840"/>
            <a:chExt cx="7835760" cy="4965120"/>
          </a:xfrm>
        </p:grpSpPr>
        <p:grpSp>
          <p:nvGrpSpPr>
            <p:cNvPr id="991" name=""/>
            <p:cNvGrpSpPr/>
            <p:nvPr/>
          </p:nvGrpSpPr>
          <p:grpSpPr>
            <a:xfrm>
              <a:off x="4584600" y="2414520"/>
              <a:ext cx="3139920" cy="2849400"/>
              <a:chOff x="4584600" y="2414520"/>
              <a:chExt cx="3139920" cy="2849400"/>
            </a:xfrm>
          </p:grpSpPr>
          <p:sp>
            <p:nvSpPr>
              <p:cNvPr id="992" name=""/>
              <p:cNvSpPr/>
              <p:nvPr/>
            </p:nvSpPr>
            <p:spPr>
              <a:xfrm>
                <a:off x="7331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938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545880" y="49064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538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14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3690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97664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584600" y="49064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331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938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6545880" y="45504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61538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614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3690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97664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584600" y="45504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331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938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45880" y="419436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1538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7614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3690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7664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584600" y="419436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331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938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5880" y="38383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538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14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3690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97664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84600" y="38383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1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938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545880" y="348228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538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7614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690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97664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584600" y="348228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331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938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545880" y="312624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538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7614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690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97664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4584600" y="312624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331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938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545880" y="277020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538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7614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90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97664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584600" y="277020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331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938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545880" y="2414520"/>
                <a:ext cx="39240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1538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7614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3690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497664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84600" y="2414520"/>
                <a:ext cx="392040" cy="35568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584600" y="241452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584600" y="27702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4584600" y="31262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4584600" y="348228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4584600" y="383832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4584600" y="419436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4584600" y="455040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84600" y="4906440"/>
                <a:ext cx="3138840" cy="144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4584600" y="5262480"/>
                <a:ext cx="3138840" cy="144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4584600" y="2414520"/>
                <a:ext cx="144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49766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3690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7614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15384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545880" y="2414520"/>
                <a:ext cx="144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9386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331040" y="2414520"/>
                <a:ext cx="1080" cy="28479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723440" y="2414520"/>
                <a:ext cx="1080" cy="28479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762120" y="1652760"/>
              <a:ext cx="2949480" cy="306360"/>
              <a:chOff x="762120" y="1652760"/>
              <a:chExt cx="2949480" cy="306360"/>
            </a:xfrm>
          </p:grpSpPr>
          <p:sp>
            <p:nvSpPr>
              <p:cNvPr id="1075" name=""/>
              <p:cNvSpPr/>
              <p:nvPr/>
            </p:nvSpPr>
            <p:spPr>
              <a:xfrm>
                <a:off x="33426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97396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60532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23668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6768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49940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130400" y="1652760"/>
                <a:ext cx="36864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62120" y="1652760"/>
                <a:ext cx="368280" cy="30636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000099"/>
                    </a:solidFill>
                    <a:latin typeface="Arial"/>
                    <a:ea typeface="굴림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62120" y="165276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62120" y="1959120"/>
                <a:ext cx="294948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6212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130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4994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867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23668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0532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97396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342600" y="1652760"/>
                <a:ext cx="0" cy="30636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711600" y="1652760"/>
                <a:ext cx="0" cy="30636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3976560" y="2355840"/>
              <a:ext cx="507960" cy="29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0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2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3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6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3533400" y="2556000"/>
              <a:ext cx="468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521160" y="1946160"/>
              <a:ext cx="0" cy="609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179520" y="2917800"/>
              <a:ext cx="83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179880" y="1933560"/>
              <a:ext cx="0" cy="984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2838600" y="3281400"/>
              <a:ext cx="11635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2838600" y="1945800"/>
              <a:ext cx="0" cy="1335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2457360" y="3621240"/>
              <a:ext cx="1519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2444760" y="1933560"/>
              <a:ext cx="0" cy="1687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2064960" y="3973680"/>
              <a:ext cx="1911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065320" y="1946160"/>
              <a:ext cx="0" cy="20275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>
              <a:off x="1672920" y="4348080"/>
              <a:ext cx="2290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1673280" y="1945800"/>
              <a:ext cx="0" cy="239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1344240" y="4687920"/>
              <a:ext cx="260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1332000" y="1946160"/>
              <a:ext cx="0" cy="2741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>
              <a:off x="977760" y="5051520"/>
              <a:ext cx="2973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977760" y="1945800"/>
              <a:ext cx="0" cy="309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762120" y="1320840"/>
              <a:ext cx="290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.OSEventGr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246640" y="1379520"/>
              <a:ext cx="1790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 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724880" y="2023920"/>
              <a:ext cx="0" cy="366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H="1">
              <a:off x="5943600" y="2273400"/>
              <a:ext cx="642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flipH="1">
              <a:off x="6914880" y="2273400"/>
              <a:ext cx="7966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561000" y="2097000"/>
              <a:ext cx="34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736040" y="2414520"/>
              <a:ext cx="4935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7939080" y="2425680"/>
              <a:ext cx="0" cy="7333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939080" y="3427560"/>
              <a:ext cx="0" cy="642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799400" y="3149640"/>
              <a:ext cx="31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2438280" y="5231880"/>
              <a:ext cx="0" cy="520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159600" y="5334120"/>
              <a:ext cx="0" cy="419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84480" y="5765760"/>
              <a:ext cx="533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y (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905440" y="5765760"/>
              <a:ext cx="533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bitx (4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883560" y="1739880"/>
              <a:ext cx="41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3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8191440" y="3048120"/>
              <a:ext cx="40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(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293F-AF39-4703-9E01-D8A67441D02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들 사이에서 실행 순서를 잡을 때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사용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호배제를 위해서가 아니라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의 발생을 알리기 위한 플래그로서 세마포어를 사용하여 어떤 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다른 태스크와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경우 세마포어의 초기값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을 시작하고 세마포어를 기다릴 때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/O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연산이 끝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나 다른 태스크가 세마포어로 신호를 보내고 태스크가 계속 진행되게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커널이 이벤트를 전달하는 태스크의 선택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기다리고 있는 태스크 중 가장 높은 우선순위의 것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A86FA-63C8-44A2-B3D0-2835E7B1AF7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Semaphor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utual Exclus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공유 자원에의 접근 제어를 가능하게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 발생을 통보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nchronizatio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두개의 태스크 간 통신에서 수신과 송신 동기화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unting semaphor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구성 요소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t unsigned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정수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를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 리스트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가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보다 크게 되기를 기다리는 태스크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 서비스를 구동하기 위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는 사용되기 전에 먼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해 생성되어야하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 카운트를 정해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하나 이상의 이벤트의 발생을 나타내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0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하나의 공유 자원 접근에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1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이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개의 동일한 자원 중 하나를 얻게 하는데 사용시 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r>
              <a:rPr b="0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9D70-F549-4F37-AC03-4C36BEB4E99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77120" y="3035160"/>
            <a:ext cx="1028520" cy="1028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2616120" y="2755800"/>
            <a:ext cx="128268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V="1">
            <a:off x="2641680" y="3720960"/>
            <a:ext cx="1257120" cy="63504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07040" y="3543480"/>
            <a:ext cx="1270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064040" y="3174840"/>
            <a:ext cx="203040" cy="2034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165560" y="3378240"/>
            <a:ext cx="0" cy="4572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165560" y="363204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165560" y="3759120"/>
            <a:ext cx="114480" cy="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4191120" y="3606480"/>
            <a:ext cx="12600" cy="152280"/>
          </a:xfrm>
          <a:prstGeom prst="line">
            <a:avLst/>
          </a:prstGeom>
          <a:ln w="507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41880" y="3352680"/>
            <a:ext cx="58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또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863960" y="318780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4863960" y="3238560"/>
            <a:ext cx="254160" cy="19044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566040" y="339084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5156280" y="270504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717640" y="2514600"/>
            <a:ext cx="127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2908440" y="4178160"/>
            <a:ext cx="13968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Sem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46440" y="22478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59120" y="1790640"/>
            <a:ext cx="157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822840" y="3898800"/>
            <a:ext cx="146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          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0417B-F59A-452E-9160-729C602743D7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Create(INT16U c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n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초기화된 카운트 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Free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얻는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연결 리스트가 다음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ree 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가리키도록 수정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 가능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있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타입을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VENT_TYPE_SE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세팅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원하는 초기 카운트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WaitListInit( 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불리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초기화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end(OS_EVENT *pevent, INT16U timeout, INT8U *err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 얻어옴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 사용가능한지 결정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C4EE3-5A2E-4BF1-AD01-E8A018B4D8E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127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Pos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에게 세마포어를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전달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기다리는 태스크가 있는지 확인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있으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Grp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필드가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기다리는 태스크들 중 가장 높은 우선순위를 가진 태스크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EventTaskRdy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wait Lis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 삭제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가 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인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로 된 태스크가 현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상태인 태스크들 중 가장 높은 우선순위를 가지고 있는지 확인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만약 그렇다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문맥교환이 발생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그렇지 않다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리턴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os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부른 태스크가 계속 수행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Accept(OS_EVENT *pevent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두지 않고 세마포어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event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가리키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Create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었는지 체크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가 사용가능한지 아닌지 결정하기 위해 현재 세마포어 카운트 값을 얻어온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세마포어 카운트로 세마포어가 사용가능한지 결정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D1A2-C0B9-44A6-BB2C-4E80EABA94F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세마포어의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마포어가 사용 가능할 때만 카운트를 감소시킨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100000"/>
              </a:lnSpc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원래 세마포어의 카운트를 호출자에게 반환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emQuery(OS_EVENT *pevent, OS_SEM_DATA *pdata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응용프로그램이 세마포어로 사용되는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스냅샷을 찍도록 하여 세마포어 상태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event : OSSemCreate()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의해서 반환된 세마포어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세마포어의 정보를 담을 자료구조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자료구조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S_SEM_DATA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현재 세마포어 카운트와 세마포어를 기다리는 태스크의 리스트를 포함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B85FF-BD5D-40EE-8639-321E21DE408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특징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운영체제로써 대표적인 비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용 공개형 커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뢰성과 안정성을 가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사이즈 – 많은 시스템에 적용가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작은 임베디드 시스템에 탑재 가능하며 임베디드 시스템 중에서도 강력한 네트워크가 필요한 곳과 높은 성능 시스템에 사용하는 것이 적합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에 따른 소스 코드의 절약이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택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처리시간 체크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, Queue, Semaphore, Memory parti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의 시스템 서비스 제공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터럽트 관리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의 수행을 일시 중지하거나 재개가 가능하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인터럽트 중첩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p to 255 levels deep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단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 개발 투자와 라이센스 등의 후처리 문제로 인해 마음대로 사용하거나 배포에 어려움이 있음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A9D02-3BA3-4AAF-B9BA-5F8D4D13C7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이벤트 플래그 서비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295280" y="2120760"/>
            <a:ext cx="6147000" cy="2599200"/>
            <a:chOff x="1295280" y="2120760"/>
            <a:chExt cx="6147000" cy="2599200"/>
          </a:xfrm>
        </p:grpSpPr>
        <p:sp>
          <p:nvSpPr>
            <p:cNvPr id="1163" name=""/>
            <p:cNvSpPr/>
            <p:nvPr/>
          </p:nvSpPr>
          <p:spPr>
            <a:xfrm>
              <a:off x="1397160" y="2222640"/>
              <a:ext cx="1028520" cy="10285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1498680" y="2577960"/>
              <a:ext cx="85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295280" y="4165560"/>
              <a:ext cx="1105200" cy="5209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409760" y="428004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991040" y="3213000"/>
              <a:ext cx="216000" cy="1778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V="1">
              <a:off x="4991040" y="3034440"/>
              <a:ext cx="216000" cy="165240"/>
            </a:xfrm>
            <a:prstGeom prst="triangle">
              <a:avLst>
                <a:gd name="adj" fmla="val 50000"/>
              </a:avLst>
            </a:prstGeom>
            <a:solidFill>
              <a:srgbClr val="000099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62640" y="2286000"/>
              <a:ext cx="1028880" cy="102888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464160" y="2641680"/>
              <a:ext cx="85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태스크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37440" y="4114800"/>
              <a:ext cx="1104840" cy="5205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451560" y="4229280"/>
              <a:ext cx="87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  <a:ea typeface="굴림"/>
                </a:rPr>
                <a:t>IS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3" name=""/>
            <p:cNvGrpSpPr/>
            <p:nvPr/>
          </p:nvGrpSpPr>
          <p:grpSpPr>
            <a:xfrm>
              <a:off x="3683160" y="3429000"/>
              <a:ext cx="1244520" cy="293400"/>
              <a:chOff x="3683160" y="3429000"/>
              <a:chExt cx="1244520" cy="293400"/>
            </a:xfrm>
          </p:grpSpPr>
          <p:sp>
            <p:nvSpPr>
              <p:cNvPr id="1174" name=""/>
              <p:cNvSpPr/>
              <p:nvPr/>
            </p:nvSpPr>
            <p:spPr>
              <a:xfrm>
                <a:off x="4772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6162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607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305600" y="3429000"/>
                <a:ext cx="15516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14972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99420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383868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3683160" y="3429000"/>
                <a:ext cx="155520" cy="293400"/>
              </a:xfrm>
              <a:prstGeom prst="rect">
                <a:avLst/>
              </a:prstGeom>
              <a:noFill/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spcBef>
                    <a:spcPts val="2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3683160" y="34290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3683160" y="3722400"/>
                <a:ext cx="1244520" cy="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68316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8386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39942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14972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30560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607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61628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772160" y="3429000"/>
                <a:ext cx="0" cy="29340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927680" y="3429000"/>
                <a:ext cx="0" cy="293400"/>
              </a:xfrm>
              <a:prstGeom prst="line">
                <a:avLst/>
              </a:prstGeom>
              <a:ln cap="sq" w="284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3" name=""/>
            <p:cNvSpPr/>
            <p:nvPr/>
          </p:nvSpPr>
          <p:spPr>
            <a:xfrm>
              <a:off x="2400480" y="2997360"/>
              <a:ext cx="125712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400480" y="3619440"/>
              <a:ext cx="124452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952880" y="2945880"/>
              <a:ext cx="139716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5840" y="3657600"/>
              <a:ext cx="1384200" cy="5587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476440" y="2158920"/>
              <a:ext cx="14479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Create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Del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016600" y="2120760"/>
              <a:ext cx="149868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end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352680" y="3809880"/>
              <a:ext cx="193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이벤트 플래그 그룹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2476440" y="4356000"/>
              <a:ext cx="130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Pos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851360" y="4165560"/>
              <a:ext cx="14605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Accept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FlagQuery ( 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F8E00-38CE-479E-AB89-216683B5E374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 박스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송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메일 박스에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수신측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의 도착을 일정시간 기다린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다수의 수신자 가능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수신순서는 미리 정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CFS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선순위 기반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BOX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는 사용되기 전에 메시지 포인터의 초기 값을 정해주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(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초기값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만약 메일 박스가 이벤트 발생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igna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사용된다면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벤트가 발생하지 않았으므로 초기값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가 공유 자원 접근에 사용된다면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포인터가 아닌 값으로 초기화 – 메일 박스를 이진 세마포어로 사용가능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80AF4-4792-46ED-9201-16060F606F3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박스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600200" y="214632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562040" y="4343400"/>
            <a:ext cx="110484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616120" y="2755800"/>
            <a:ext cx="1435320" cy="5461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2641680" y="3619440"/>
            <a:ext cx="1434960" cy="73656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3178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1701720" y="25020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1676520" y="44578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978440" y="2527200"/>
            <a:ext cx="1460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2717640" y="2514600"/>
            <a:ext cx="130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679840" y="4305240"/>
            <a:ext cx="1511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Mbox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381560" y="2235240"/>
            <a:ext cx="0" cy="63504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3543480" y="172728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4203720" y="3124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H="1">
            <a:off x="4216320" y="3772080"/>
            <a:ext cx="3556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34340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394160" y="345456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054760" y="42292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393696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7A98A-A8BE-4ED5-8C5D-CFBD7DC900C7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Create(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를 생성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sg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에 대한 포인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end(OS_EVENT *pevent, INT16U timeout, INT8U *err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우편함에서 메시지가 도착하기를 기다리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event : 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대한 포인터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imeout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임아웃 값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rr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러값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Post(OS_EVENT *pevent, void *msg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 박스에 메시지를 보내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Accept(OS_EVENT *pevent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ormant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상태로 만들지 않고 메일 박스에서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MboxQuery(OS_EVENT *pevent, OS_MBOX_DATA *pdata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data :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일박스 정보 자료구조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145DC-0A35-4FEA-A7F5-5112A83C15B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일 박스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일 박스를 이진 세마포어로 사용하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메일박스는 메일박스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null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아닌 포인터로 초기화함으로서 이진 세마포어로 사용될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SEM_EN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0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설정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단지 메일 박스만을 구동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커니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세마포어를 요청하는 태스크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end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호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Mbox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부름으로써 세마포어를 풀어 놓는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장점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이진 세마포어나 메일 박스만을 필요로 할 때 코드 양을 줄일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19E6-74F8-43D7-A8E4-8CCB1A6BB3D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essage Queue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ilbox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하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송수신은 비동기적으로 이루어진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신 태스크가 메시지를 받아 볼 때까지 버퍼에 저장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자료구조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생성 이전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반드시 원하는 만큼의 큐 엔트리를 포함하는 포인터의 배열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의 시작 주소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배열의 크기와 같이 인자로서 넘어감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을 할당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 제어 블록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있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EventPt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필드를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ECB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연결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초기화 되면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리스트 생성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 서비스를 구동하기 위해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Q_EN = 1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설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세팅 함으로써 얼마나 많은 큐들을 지원할 것인지 결정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AA8DE-7D83-441D-9C7D-947F6A80AA42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ISR,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의 관계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1244520" y="2171880"/>
            <a:ext cx="102888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206360" y="4368960"/>
            <a:ext cx="1105200" cy="5205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477120" y="2959200"/>
            <a:ext cx="1028520" cy="1028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260440" y="2781360"/>
            <a:ext cx="1587600" cy="5335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286000" y="3619080"/>
            <a:ext cx="1549440" cy="76212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800600" y="3492360"/>
            <a:ext cx="167652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33080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1346040" y="2527200"/>
            <a:ext cx="8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566040" y="3314880"/>
            <a:ext cx="8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320840" y="4483080"/>
            <a:ext cx="87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78440" y="2527200"/>
            <a:ext cx="1396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end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Query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62320" y="2031840"/>
            <a:ext cx="1422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451240" y="4317840"/>
            <a:ext cx="139680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PostFron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Flush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QAccept(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4305240" y="1803240"/>
            <a:ext cx="12600" cy="952560"/>
          </a:xfrm>
          <a:prstGeom prst="line">
            <a:avLst/>
          </a:prstGeom>
          <a:ln w="2844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3479760" y="1486080"/>
            <a:ext cx="17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Create(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45788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H="1">
            <a:off x="3949200" y="31240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483080" y="3403440"/>
            <a:ext cx="88920" cy="889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584600" y="3505320"/>
            <a:ext cx="825480" cy="7617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5194440" y="428004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86200" y="3873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H="1">
            <a:off x="3949200" y="3784680"/>
            <a:ext cx="7621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07664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203720" y="3137040"/>
            <a:ext cx="0" cy="64764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584600" y="3124080"/>
            <a:ext cx="0" cy="64800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127400" y="2793960"/>
            <a:ext cx="4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4812-7B24-4EC2-8D5C-C6D50FD694A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Free Queue control block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리스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422280" y="1711440"/>
            <a:ext cx="8140680" cy="3292920"/>
            <a:chOff x="422280" y="1711440"/>
            <a:chExt cx="8140680" cy="3292920"/>
          </a:xfrm>
        </p:grpSpPr>
        <p:sp>
          <p:nvSpPr>
            <p:cNvPr id="1262" name=""/>
            <p:cNvSpPr/>
            <p:nvPr/>
          </p:nvSpPr>
          <p:spPr>
            <a:xfrm>
              <a:off x="185436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85436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185436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85436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5436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85436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185436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178080" y="2190600"/>
              <a:ext cx="15732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914480" y="2124000"/>
              <a:ext cx="139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914480" y="24256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1914480" y="2746080"/>
              <a:ext cx="140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195120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914480" y="304632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40040" y="36511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1914480" y="3349440"/>
              <a:ext cx="142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76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6576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6576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6576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6576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76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6576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9816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718080" y="2124000"/>
              <a:ext cx="139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1808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71808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7544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718080" y="304632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743280" y="3651120"/>
              <a:ext cx="13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718080" y="3349440"/>
              <a:ext cx="142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0200" y="2112840"/>
              <a:ext cx="1554120" cy="2138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280200" y="240156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280200" y="27032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80200" y="300168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280200" y="3314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280200" y="363852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280200" y="3939840"/>
              <a:ext cx="155412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604280" y="2190600"/>
              <a:ext cx="156960" cy="13284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42120" y="2124000"/>
              <a:ext cx="1395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342120" y="24256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342120" y="2746080"/>
              <a:ext cx="1407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77040" y="3973320"/>
              <a:ext cx="138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42120" y="304632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64440" y="3651120"/>
              <a:ext cx="138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42120" y="334944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22280" y="2090520"/>
              <a:ext cx="129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FreeLi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543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823160" y="1733400"/>
              <a:ext cx="0" cy="210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13120" y="1711440"/>
              <a:ext cx="170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MAX_Q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160880" y="4697280"/>
              <a:ext cx="95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126280" y="211284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286240" y="1850760"/>
              <a:ext cx="25146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1908000" y="1850760"/>
              <a:ext cx="2121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317760" y="22572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46560" y="2269800"/>
              <a:ext cx="33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578560" y="22698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5EEFF-0FE6-4DB4-9A5B-3222098F8C8F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에서의 자료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19" name=""/>
          <p:cNvGrpSpPr/>
          <p:nvPr/>
        </p:nvGrpSpPr>
        <p:grpSpPr>
          <a:xfrm>
            <a:off x="457200" y="1447920"/>
            <a:ext cx="8661240" cy="4073760"/>
            <a:chOff x="457200" y="1447920"/>
            <a:chExt cx="8661240" cy="4073760"/>
          </a:xfrm>
        </p:grpSpPr>
        <p:sp>
          <p:nvSpPr>
            <p:cNvPr id="1320" name=""/>
            <p:cNvSpPr/>
            <p:nvPr/>
          </p:nvSpPr>
          <p:spPr>
            <a:xfrm>
              <a:off x="723960" y="1828800"/>
              <a:ext cx="1739880" cy="29210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8360" y="1816200"/>
              <a:ext cx="1727280" cy="172728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692760" y="1828800"/>
              <a:ext cx="876600" cy="2946240"/>
            </a:xfrm>
            <a:prstGeom prst="rect">
              <a:avLst/>
            </a:prstGeom>
            <a:noFill/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36560" y="2070000"/>
              <a:ext cx="17146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36560" y="2311560"/>
              <a:ext cx="17146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36560" y="25653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36560" y="279396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560" y="30481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36560" y="3289320"/>
              <a:ext cx="17146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23960" y="3543480"/>
              <a:ext cx="172728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23960" y="3797280"/>
              <a:ext cx="1727280" cy="0"/>
            </a:xfrm>
            <a:prstGeom prst="line">
              <a:avLst/>
            </a:prstGeom>
            <a:ln w="9360">
              <a:solidFill>
                <a:srgbClr val="00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23960" y="40514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23960" y="42926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36560" y="452124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6044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044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8800" y="2070000"/>
              <a:ext cx="0" cy="19814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12800" y="2070000"/>
              <a:ext cx="0" cy="199404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8420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68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952560" y="2070000"/>
              <a:ext cx="0" cy="1968480"/>
            </a:xfrm>
            <a:prstGeom prst="line">
              <a:avLst/>
            </a:prstGeom>
            <a:ln w="93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74720" y="1879560"/>
              <a:ext cx="10152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76240" y="17906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352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03184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816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002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716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143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9270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698400" y="2057400"/>
              <a:ext cx="228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184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96848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75248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494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208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092240" y="3784680"/>
              <a:ext cx="38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76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60240" y="3784680"/>
              <a:ext cx="381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6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708360" y="207000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708360" y="23115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3708360" y="25527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708360" y="279396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708360" y="30481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708360" y="3289320"/>
              <a:ext cx="172728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3708360" y="180324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Pt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3695760" y="2044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3695760" y="22734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695760" y="25146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3695760" y="2755800"/>
              <a:ext cx="149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**</a:t>
              </a: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   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860640" y="303516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873600" y="3276720"/>
              <a:ext cx="149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70400" y="187956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70400" y="213372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70400" y="23749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270400" y="2616120"/>
              <a:ext cx="101880" cy="1270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270400" y="2857680"/>
              <a:ext cx="101880" cy="12672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2760" y="255276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92760" y="4076640"/>
              <a:ext cx="863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692760" y="2552760"/>
              <a:ext cx="876600" cy="152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7632720" y="1828800"/>
              <a:ext cx="1130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7632720" y="4775040"/>
              <a:ext cx="11048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7632720" y="255276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7632720" y="4076640"/>
              <a:ext cx="457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7988400" y="3492360"/>
              <a:ext cx="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988400" y="2552760"/>
              <a:ext cx="0" cy="6350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8636040" y="1816200"/>
              <a:ext cx="0" cy="1689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8648640" y="3809880"/>
              <a:ext cx="0" cy="9651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518240" y="3213000"/>
              <a:ext cx="1041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8178840" y="3530520"/>
              <a:ext cx="9396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435640" y="21844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V="1">
              <a:off x="5715000" y="1802880"/>
              <a:ext cx="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715000" y="18032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48240" y="2425680"/>
              <a:ext cx="266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727600" y="2425680"/>
              <a:ext cx="0" cy="2336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727600" y="4775040"/>
              <a:ext cx="914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435640" y="2679840"/>
              <a:ext cx="762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197760" y="2679840"/>
              <a:ext cx="0" cy="1384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10360" y="4064040"/>
              <a:ext cx="43164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435640" y="2921040"/>
              <a:ext cx="9018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V="1">
              <a:off x="6337440" y="2552400"/>
              <a:ext cx="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37440" y="2540160"/>
              <a:ext cx="279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479760" y="1943280"/>
              <a:ext cx="203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67160" y="1943280"/>
              <a:ext cx="0" cy="31748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457200" y="5118120"/>
              <a:ext cx="29973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457200" y="1930320"/>
              <a:ext cx="0" cy="3187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57200" y="1930320"/>
              <a:ext cx="2541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851040" y="4025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C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876240" y="42418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y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76240" y="4483080"/>
              <a:ext cx="143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G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14600" y="207000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14600" y="4038480"/>
              <a:ext cx="33012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717640" y="2069640"/>
              <a:ext cx="0" cy="939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17640" y="3301920"/>
              <a:ext cx="0" cy="736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400480" y="3009960"/>
              <a:ext cx="11430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EventTbl[ ]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914400" y="14986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EV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898800" y="1486080"/>
              <a:ext cx="132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_Q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7124760" y="4775040"/>
              <a:ext cx="0" cy="597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6883560" y="5372280"/>
              <a:ext cx="241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254480" y="5245200"/>
              <a:ext cx="266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응용 프로그램에서 할당한 배열 공간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324160" y="4152960"/>
              <a:ext cx="380880" cy="27936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527200" y="4457880"/>
              <a:ext cx="8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000099"/>
                  </a:solidFill>
                  <a:latin typeface="Arial"/>
                  <a:ea typeface="굴림"/>
                </a:rPr>
                <a:t>사용 안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248520" y="144792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void * MsgTbl[ 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90B46-42C3-4CBB-AD69-210E498A7294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원형 버퍼로 구현된 메시지 큐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 엔트리는 메시지에 대한 포인터를 가진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큐가 꽉 차지 않았으면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 메시지에 대한 포인터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 가리켜지는 엔트리에서 소비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FIFO queue : OSQIn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LIFO queue : OSQOut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전의 엔트리에 포인터를 저장하는 것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tries == OSQSiz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일 때 포인터는 꽉찬 것으로 간주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메시지 포인터는 항상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가리켜지는 엔트리로부터 추출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Start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QEnd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는 배열의 처음과 끝을 나타낸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25" name=""/>
          <p:cNvGrpSpPr/>
          <p:nvPr/>
        </p:nvGrpSpPr>
        <p:grpSpPr>
          <a:xfrm>
            <a:off x="2082960" y="3886200"/>
            <a:ext cx="5587920" cy="2875680"/>
            <a:chOff x="2082960" y="3886200"/>
            <a:chExt cx="5587920" cy="2875680"/>
          </a:xfrm>
        </p:grpSpPr>
        <p:sp>
          <p:nvSpPr>
            <p:cNvPr id="1426" name=""/>
            <p:cNvSpPr/>
            <p:nvPr/>
          </p:nvSpPr>
          <p:spPr>
            <a:xfrm>
              <a:off x="4229280" y="4228920"/>
              <a:ext cx="1892160" cy="1841400"/>
            </a:xfrm>
            <a:prstGeom prst="donut">
              <a:avLst>
                <a:gd name="adj" fmla="val 28319"/>
              </a:avLst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410080" y="5473440"/>
              <a:ext cx="368280" cy="406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549760" y="5333760"/>
              <a:ext cx="49536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613480" y="5105160"/>
              <a:ext cx="4824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30800" y="4787640"/>
              <a:ext cx="457200" cy="1526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4267080" y="5219280"/>
              <a:ext cx="482760" cy="507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V="1">
              <a:off x="4432320" y="5435640"/>
              <a:ext cx="431640" cy="266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 flipV="1">
              <a:off x="5244840" y="5549760"/>
              <a:ext cx="88920" cy="5205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4774680" y="5549760"/>
              <a:ext cx="279720" cy="4572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5511960" y="4660560"/>
              <a:ext cx="46980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6044760" y="5727600"/>
              <a:ext cx="6987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680160" y="556236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648320" y="4991040"/>
              <a:ext cx="106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48320" y="4419360"/>
              <a:ext cx="330120" cy="381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68880" y="4216320"/>
              <a:ext cx="0" cy="5461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5346720" y="4356000"/>
              <a:ext cx="279360" cy="444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648320" y="4076640"/>
              <a:ext cx="279360" cy="2538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4940280" y="4064040"/>
              <a:ext cx="8254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81560" y="4279680"/>
              <a:ext cx="0" cy="304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784680" y="4279680"/>
              <a:ext cx="5968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473800" y="388620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552760" y="4101840"/>
              <a:ext cx="1193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Sta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803920" y="5892840"/>
              <a:ext cx="266760" cy="29196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270400" y="6454800"/>
              <a:ext cx="196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Point to messa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435640" y="5918040"/>
              <a:ext cx="88920" cy="584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V="1">
              <a:off x="3543480" y="5282640"/>
              <a:ext cx="634680" cy="8892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730600" y="4863960"/>
              <a:ext cx="75960" cy="20340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806560" y="5079960"/>
              <a:ext cx="1308240" cy="0"/>
            </a:xfrm>
            <a:prstGeom prst="line">
              <a:avLst/>
            </a:prstGeom>
            <a:ln w="9360">
              <a:solidFill>
                <a:srgbClr val="000099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082960" y="454644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209680" y="5244840"/>
              <a:ext cx="1308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048120" y="5537160"/>
              <a:ext cx="38160" cy="1396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V="1">
              <a:off x="3086280" y="5447880"/>
              <a:ext cx="1130040" cy="2286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784680" y="5333760"/>
              <a:ext cx="2158920" cy="1055880"/>
            </a:xfrm>
            <a:custGeom>
              <a:avLst/>
              <a:gdLst/>
              <a:ahLst/>
              <a:rect l="l" t="t" r="r" b="b"/>
              <a:pathLst>
                <a:path w="1360" h="665">
                  <a:moveTo>
                    <a:pt x="0" y="0"/>
                  </a:moveTo>
                  <a:cubicBezTo>
                    <a:pt x="12" y="36"/>
                    <a:pt x="40" y="156"/>
                    <a:pt x="72" y="216"/>
                  </a:cubicBezTo>
                  <a:cubicBezTo>
                    <a:pt x="104" y="276"/>
                    <a:pt x="148" y="316"/>
                    <a:pt x="192" y="360"/>
                  </a:cubicBezTo>
                  <a:cubicBezTo>
                    <a:pt x="236" y="404"/>
                    <a:pt x="281" y="443"/>
                    <a:pt x="336" y="480"/>
                  </a:cubicBezTo>
                  <a:cubicBezTo>
                    <a:pt x="391" y="517"/>
                    <a:pt x="459" y="556"/>
                    <a:pt x="520" y="584"/>
                  </a:cubicBezTo>
                  <a:cubicBezTo>
                    <a:pt x="581" y="612"/>
                    <a:pt x="639" y="635"/>
                    <a:pt x="704" y="648"/>
                  </a:cubicBezTo>
                  <a:cubicBezTo>
                    <a:pt x="769" y="661"/>
                    <a:pt x="845" y="665"/>
                    <a:pt x="912" y="664"/>
                  </a:cubicBezTo>
                  <a:cubicBezTo>
                    <a:pt x="979" y="663"/>
                    <a:pt x="1047" y="655"/>
                    <a:pt x="1104" y="640"/>
                  </a:cubicBezTo>
                  <a:cubicBezTo>
                    <a:pt x="1161" y="625"/>
                    <a:pt x="1213" y="605"/>
                    <a:pt x="1256" y="576"/>
                  </a:cubicBezTo>
                  <a:cubicBezTo>
                    <a:pt x="1299" y="547"/>
                    <a:pt x="1338" y="487"/>
                    <a:pt x="1360" y="464"/>
                  </a:cubicBezTo>
                </a:path>
              </a:pathLst>
            </a:custGeom>
            <a:noFill/>
            <a:ln w="9360">
              <a:solidFill>
                <a:srgbClr val="000099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165560" y="6146640"/>
              <a:ext cx="139680" cy="20340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556080" y="6311880"/>
              <a:ext cx="13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  <a:ea typeface="굴림"/>
                </a:rPr>
                <a:t>OSQE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533840" y="53845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699080" y="567684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054760" y="5829120"/>
              <a:ext cx="8892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372280" y="5816520"/>
              <a:ext cx="88560" cy="88920"/>
            </a:xfrm>
            <a:prstGeom prst="ellipse">
              <a:avLst/>
            </a:prstGeom>
            <a:noFill/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74E5-097B-4107-9B63-1CA773501486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파일 구조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422360"/>
            <a:ext cx="5651640" cy="54612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82960"/>
            <a:ext cx="2768760" cy="19810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57880" y="2082960"/>
            <a:ext cx="2755800" cy="199368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4203720"/>
            <a:ext cx="5651640" cy="851040"/>
          </a:xfrm>
          <a:prstGeom prst="rect">
            <a:avLst/>
          </a:prstGeom>
          <a:solidFill>
            <a:srgbClr val="ccff33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87600" y="5435640"/>
            <a:ext cx="5638680" cy="0"/>
          </a:xfrm>
          <a:prstGeom prst="line">
            <a:avLst/>
          </a:prstGeom>
          <a:ln w="936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2040" y="5727600"/>
            <a:ext cx="280692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3080" y="5727600"/>
            <a:ext cx="2730600" cy="4190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06560" y="1574640"/>
            <a:ext cx="318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50960" y="2120760"/>
            <a:ext cx="262908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독립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ORE.C     OS_FLAG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BOX.C     OS_MEM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MUTEX.C         OS_Q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SEM.C       OS_TASK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TIME.C         UCOS_II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OS_II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33840" y="2273400"/>
            <a:ext cx="260352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설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에 의존적인 상수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FG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INCLUDES.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12800" y="4356000"/>
            <a:ext cx="5499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포트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프로세서 의존적인 코드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OS_CPU.H                OS_CPU_A.ASM               OS_CPU_C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577836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33840" y="5765760"/>
            <a:ext cx="260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타이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5168880"/>
            <a:ext cx="14860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소프트 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하드웨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6A331-0F86-4E25-A98C-46D4505309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Create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 큐를 생성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전에 메시지를 담을 포인터 배열이 할당되어야 한다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배열은 포인터의 배열로써 선언되어야 한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EVENT *OSQCreate(void **start, INT16U size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end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메시지가 큐에 도착하기를 기다리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Pend(OS_EVENT *pevent, INT16U timeout, INT8U *er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있는 메시지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형식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eposi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는 코드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PostFron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것은 다음 삽입될 엔트리에 대한 포인터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I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대신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Out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IFO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구현한다는 것을 제외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QPost()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동일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PostFront(OS_EVENT *pevent, void *msg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04BF-5C73-45FB-8CF1-3E2C57E80C76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메시지 큐 관련 함수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Accept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태스크를 수면상태에 둘 필요 없이 큐로부터 메시지를 얻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Void *OSQAccept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Flush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큐에 배달된 모든 메시지를 삭제하고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기본적으로 새로운 큐에서 다시 시작하게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Flush(OS_EVENT *pevent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QQuery(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응용프로그램이 메시지 큐의 스냅 샷을 찍도록 하는 함수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8U OSQQuery(OS_EVENT *pevent, OS_Q_DATA *pdata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0826-F34C-4F87-BA90-87EB766B861A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Configuration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설정은 다음과 같은 단계를 거친다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OS.H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의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#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fin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값을 고친다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IDLE_TASK_STACK_SIZ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TASK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EVEN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_MAX_QUEU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99ff33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O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imeTik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하는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작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 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코드인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하여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ick ISR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대한 인터럽트 벡터를 할당 및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하기 전에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main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을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emaphore, mailbox, queue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스택 영역을 할당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태스크 중 하나를 생성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멀티 태스킹을 행할 준비가 되면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호출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24232-22EF-47F6-887B-93BCACB3939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시간 운영체제 프로그래밍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orting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에서의 응용 프로그램 예제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3186360" y="2612880"/>
            <a:ext cx="2695320" cy="5806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개발키트에 따라 내용이 달라질 수 있으므로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사용하는 보드에 따라 접근하시기 바람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7F50D-8432-432A-8D31-444B955E911B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소스 트리구조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6" name=""/>
          <p:cNvGrpSpPr/>
          <p:nvPr/>
        </p:nvGrpSpPr>
        <p:grpSpPr>
          <a:xfrm>
            <a:off x="1168560" y="1778040"/>
            <a:ext cx="3884040" cy="4330800"/>
            <a:chOff x="1168560" y="1778040"/>
            <a:chExt cx="3884040" cy="4330800"/>
          </a:xfrm>
        </p:grpSpPr>
        <p:pic>
          <p:nvPicPr>
            <p:cNvPr id="1477" name="ucos_sourcetree" descr=""/>
            <p:cNvPicPr/>
            <p:nvPr/>
          </p:nvPicPr>
          <p:blipFill>
            <a:blip r:embed="rId1">
              <a:lum contrast="6000"/>
            </a:blip>
            <a:stretch/>
          </p:blipFill>
          <p:spPr>
            <a:xfrm>
              <a:off x="1373040" y="1968480"/>
              <a:ext cx="3679560" cy="401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1168560" y="1778040"/>
              <a:ext cx="3695400" cy="4330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"/>
          <p:cNvSpPr/>
          <p:nvPr/>
        </p:nvSpPr>
        <p:spPr>
          <a:xfrm>
            <a:off x="4997520" y="4962600"/>
            <a:ext cx="3711600" cy="82404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※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컴파일 되서 동작되기 위해서는 프로세서에 의존적인 커널파일과 프로세서에 독립적인 커널 파일 그리고 애플리케이션으로 나눌 수 있다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8B899-0EC1-4179-A5E3-CE662DA999B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의존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에 독립적 커널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2" name=""/>
          <p:cNvGraphicFramePr/>
          <p:nvPr/>
        </p:nvGraphicFramePr>
        <p:xfrm>
          <a:off x="1562040" y="1739880"/>
          <a:ext cx="6362640" cy="187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739880"/>
                    <a:ext cx="636264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4" name=""/>
          <p:cNvGraphicFramePr/>
          <p:nvPr/>
        </p:nvGraphicFramePr>
        <p:xfrm>
          <a:off x="1562040" y="4124160"/>
          <a:ext cx="6364440" cy="1955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4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62040" y="4124160"/>
                    <a:ext cx="63644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963FF-4486-4E0D-8B0C-488DD59CA39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구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타 파일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488" name=""/>
          <p:cNvGraphicFramePr/>
          <p:nvPr/>
        </p:nvGraphicFramePr>
        <p:xfrm>
          <a:off x="1558800" y="1746360"/>
          <a:ext cx="6367680" cy="234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8800" y="1746360"/>
                    <a:ext cx="636768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60798-1D47-4DED-ABD0-4E115D48339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1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ulti-Tas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여러 가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동시에 실행시킨다는 것을 의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관점에서는 어느 한 시점에 하나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만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으며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가 서로의 영향을 받지않고 일정한 시간간격으로 독립적으로 수행되는 것이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이란 이러한 여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을 특정 시간 간격으로 번갈아 가며 실행 시키는 것을 말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내에서의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ystem cal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서 발생하는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의해서 발생될 수 있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1397160" y="4756320"/>
            <a:ext cx="6976800" cy="642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MingLiU"/>
              </a:rPr>
              <a:t>system call :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를 호출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READ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상태의 차 순위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찾게 된다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72114-B801-457B-BAB6-E680B76DF73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61520" y="1364760"/>
            <a:ext cx="84488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다고 가정 하고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수행 하고 나서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되는 시점을 생각해 보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는 동안 관련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변경시킬 테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려 할 때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 벌린 일들이 널려 있을 것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따라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최종적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점유하고 있었을 때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register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할 것 이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다음 번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tim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PU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환경을 복구하기 위해 자기가 벌려놓은 일을 저장 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 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도 이러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방법을 사용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P(Stack Pointer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저장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chedul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라는 것은 바로 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하는 것으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관련된 대표적 명령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op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이러한 명령들을 사용하여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들을 저장하거나 불러오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는 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당 한 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가짐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보관하기 위해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lnSpc>
                <a:spcPct val="90000"/>
              </a:lnSpc>
              <a:spcBef>
                <a:spcPts val="400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라는 두 가지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있고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witching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시 처리되는 내용을 살펴보면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에 의해 결국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uC/OS source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rt.asm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파일의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CtxSw 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가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수행하게 된다</a:t>
            </a:r>
            <a:r>
              <a:rPr b="0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50562-7AAA-4C79-B4CA-9D540D9BE33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ucos_실행환경" descr=""/>
          <p:cNvPicPr/>
          <p:nvPr/>
        </p:nvPicPr>
        <p:blipFill>
          <a:blip r:embed="rId1"/>
          <a:stretch/>
        </p:blipFill>
        <p:spPr>
          <a:xfrm>
            <a:off x="290520" y="2144880"/>
            <a:ext cx="4513320" cy="3450960"/>
          </a:xfrm>
          <a:prstGeom prst="rect">
            <a:avLst/>
          </a:prstGeom>
          <a:ln w="0">
            <a:noFill/>
          </a:ln>
        </p:spPr>
      </p:pic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761760" y="136476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기능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Xscale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경우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4684680" y="2217600"/>
            <a:ext cx="4313160" cy="34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1. Task1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2. 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현재 실행 번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3. General register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 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4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현재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(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 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각각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은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(Task Control Block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란 것을 유지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즉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저장합니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5. S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TCB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에 저장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 address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etting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6. General register(Task2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의 실행환경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들을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 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7. PC(Program Counter)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및 주요 제어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register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로부터 </a:t>
            </a: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pop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굴림"/>
              </a:rPr>
              <a:t>8. Task2 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가 실행된다</a:t>
            </a: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88DA9-F127-4CF2-8811-64098C84634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-II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에서의 태스크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Task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또는 실행이 끝나면 스스로를 제거하는 함수로 구성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무한루프 함수는 인터럽트에 의해 선점되어 높은 우선순위의 태스크 실행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64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질 수 있고 이 중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5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태스크를 사용자가 생성 가능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생성하는 각 태스크는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4, … 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-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범위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일한 우선 순위 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할당 받음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여기서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LOWEST_PRIO = 63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역할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값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evel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낮으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iority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높아짐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Id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ChangePrio(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TaskDel(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커널 서비스에 의하여 사용됨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준비가 된 태스크 중 가장 높은 우선순위의 것을 실행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3535-71F6-4782-B79F-1F2F3EC29E2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존적 커널 파일 수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.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변수형 선언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Entry Siz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1" name=""/>
          <p:cNvGraphicFramePr/>
          <p:nvPr/>
        </p:nvGraphicFramePr>
        <p:xfrm>
          <a:off x="1954080" y="2438280"/>
          <a:ext cx="5913720" cy="19857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199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BOOLEAN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char  INT8U;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char  INT8S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 8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short INT16U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short INT16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16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long  INT32U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Unsigned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signed   long  INT32S;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gned   32 bit quantity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float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32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Sing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double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P64;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ouble precision floating poi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2" name=""/>
          <p:cNvGraphicFramePr/>
          <p:nvPr/>
        </p:nvGraphicFramePr>
        <p:xfrm>
          <a:off x="1954080" y="5075280"/>
          <a:ext cx="5913720" cy="7095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71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STK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ach stack entry is 32-bit wide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ypedef unsigned int  OS_CPU_SR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ine size of CPU statu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register (PSW = 16 bits) */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A715-C366-49B5-B309-15B4AADF4F5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ck Memory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 설정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Global Interrupt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Enable/Disable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05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STK_GROWTH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06" name=""/>
          <p:cNvGraphicFramePr/>
          <p:nvPr/>
        </p:nvGraphicFramePr>
        <p:xfrm>
          <a:off x="1954080" y="3365640"/>
          <a:ext cx="5913720" cy="216216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16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CRITICAL_METHOD   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asm  CLI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isable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asm  STI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able  interrupts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99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     OS_CRITICAL_METHOD ==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NTER_CRITICAL()   OST0_Interrupt_Mask_Dis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OS_EXIT_CRITICAL()   OST0_Interrupt_Mask_Enable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7" name=""/>
          <p:cNvSpPr/>
          <p:nvPr/>
        </p:nvSpPr>
        <p:spPr>
          <a:xfrm>
            <a:off x="1965240" y="1866960"/>
            <a:ext cx="5907240" cy="10144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따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증가 방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low -&gt; high memory :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igh -&gt; low memory 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MS UI Gothic"/>
              </a:rPr>
              <a:t>※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RM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경우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 pointer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아래로 자라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Decrement 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1965240" y="5580000"/>
            <a:ext cx="590724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은 어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한 동작을 수행 시 그 사이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및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발생하지 않도록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함수를 수행하고 나서는 반드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 해야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03002-6ECC-47F6-A667-E80EC900DC76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s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배타적 접근을 보장하기 위해 이 코드가 수행되기 전 인터럽트를 금지시키고 수행이 완료되었을 때 인터럽트 다시 허용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다음과 같은 매크로로 구현됨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NTER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XIT_CRITICAL( 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제한 사항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실행되는 태스크는 개별적인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riority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번호를 가지고 있어야 함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349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NMI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/OS system cal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이 만들어 질 수 없다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코드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ritical se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할 때 인터럽트를 금지시키므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3FA2C-81BF-4CB4-944A-510EFCCC2D4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761760" y="122832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 Switching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방법 정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s_cpu_c.c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함수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9479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3" name=""/>
          <p:cNvGraphicFramePr/>
          <p:nvPr/>
        </p:nvGraphicFramePr>
        <p:xfrm>
          <a:off x="1954080" y="1538280"/>
          <a:ext cx="5913720" cy="284040"/>
        </p:xfrm>
        <a:graphic>
          <a:graphicData uri="http://schemas.openxmlformats.org/drawingml/2006/table">
            <a:tbl>
              <a:tblPr/>
              <a:tblGrid>
                <a:gridCol w="5913720"/>
              </a:tblGrid>
              <a:tr h="28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OS_TASK_SW()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(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4" name=""/>
          <p:cNvSpPr/>
          <p:nvPr/>
        </p:nvSpPr>
        <p:spPr>
          <a:xfrm>
            <a:off x="1965240" y="1922400"/>
            <a:ext cx="5907240" cy="1159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CtxSw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란 함수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선언된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 switching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수행하는 함수이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발생 시에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현재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PSW(Program Status Word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와 다음 번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nstruction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addres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저장하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SR(Interrupt Service Routine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로 분기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TASK_SW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core.c fil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ched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사용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5" name=""/>
          <p:cNvGraphicFramePr/>
          <p:nvPr/>
        </p:nvGraphicFramePr>
        <p:xfrm>
          <a:off x="1954080" y="3836880"/>
          <a:ext cx="5958000" cy="239076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4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*OSTaskStkInit (void (*task)(void *pd), void *pdata, void *ptos, INT16U op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32U *stk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pt = opt;          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'opt' is not used, prevent warning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tk = (INT32U*)ptos; 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Load stack pointe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task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Entry Point .. -&gt; PC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0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6" name=""/>
          <p:cNvSpPr/>
          <p:nvPr/>
        </p:nvSpPr>
        <p:spPr>
          <a:xfrm>
            <a:off x="5014800" y="5376960"/>
            <a:ext cx="359748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첫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시작 번지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CPU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에 의해 실행될 때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Program Counter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값으로 지정될 주소를 의미한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두 번째 인수는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Tas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인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세 번째가 </a:t>
            </a:r>
            <a:r>
              <a:rPr b="1" lang="en-US" sz="1400" spc="-1" strike="noStrike">
                <a:solidFill>
                  <a:srgbClr val="000099"/>
                </a:solidFill>
                <a:latin typeface="굴림"/>
                <a:ea typeface="굴림"/>
              </a:rPr>
              <a:t>Stack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의 위치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마지막은 현재 사용하지 않는 옵션이다</a:t>
            </a:r>
            <a:r>
              <a:rPr b="1" lang="ko-KR" sz="14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86A79-D41D-47C7-A0B1-767E58F65318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60480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OSTaskStkInit()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함수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context(stack frame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 stack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을 설정하는 기능을 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발생시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SR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처음에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terrup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가 발생된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동작 환경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ackup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하기 위하여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저장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저장되는 값은 이전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cess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아닌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itial context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값이 된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3" marL="1603440" indent="-227160">
              <a:lnSpc>
                <a:spcPct val="90000"/>
              </a:lnSpc>
              <a:spcBef>
                <a:spcPts val="400"/>
              </a:spcBef>
              <a:buClr>
                <a:srgbClr val="cc33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ource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각 문장 들은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ush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명령을 통해 매 문장마다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ack memory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위치를 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(*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tk--)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감소 시킨다</a:t>
            </a:r>
            <a:r>
              <a:rPr b="0" i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i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19" name=""/>
          <p:cNvGraphicFramePr/>
          <p:nvPr/>
        </p:nvGraphicFramePr>
        <p:xfrm>
          <a:off x="1954080" y="1293840"/>
          <a:ext cx="5958000" cy="2836800"/>
        </p:xfrm>
        <a:graphic>
          <a:graphicData uri="http://schemas.openxmlformats.org/drawingml/2006/table">
            <a:tbl>
              <a:tblPr/>
              <a:tblGrid>
                <a:gridCol w="5958000"/>
              </a:tblGrid>
              <a:tr h="285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9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8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7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6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5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4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3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2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;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1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pdata;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r0 : argument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*(--stk) = (INT32U)0x53;    </a:t>
                      </a:r>
                      <a:r>
                        <a:rPr b="1" lang="en-US" sz="1400" spc="-1" strike="noStrike">
                          <a:solidFill>
                            <a:srgbClr val="cc6600"/>
                          </a:solidFill>
                          <a:latin typeface="Arial"/>
                          <a:ea typeface="굴림"/>
                        </a:rPr>
                        <a:t>/* Default CPSR *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eturn ((void *)stk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385920"/>
                          <a:tab algn="l" pos="771480"/>
                          <a:tab algn="l" pos="1157400"/>
                          <a:tab algn="l" pos="1542960"/>
                          <a:tab algn="l" pos="1928880"/>
                          <a:tab algn="l" pos="2314440"/>
                          <a:tab algn="l" pos="2700360"/>
                          <a:tab algn="l" pos="3086280"/>
                          <a:tab algn="l" pos="3471840"/>
                          <a:tab algn="l" pos="3857760"/>
                          <a:tab algn="l" pos="4243320"/>
                          <a:tab algn="l" pos="4629240"/>
                          <a:tab algn="l" pos="5014800"/>
                          <a:tab algn="l" pos="5400720"/>
                          <a:tab algn="l" pos="5786280"/>
                          <a:tab algn="l" pos="6172200"/>
                          <a:tab algn="l" pos="6558120"/>
                          <a:tab algn="l" pos="6943680"/>
                          <a:tab algn="l" pos="7329600"/>
                          <a:tab algn="l" pos="771516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F13B-1387-4D04-8F63-FF564744002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포팅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6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.asm(os_cpu_a.as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로 구현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와 하드웨어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platform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에 매우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dependent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한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ode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들이 기술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수정을 위해서는 해당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CPU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assembly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언어를 알고 있어야 하며 하드웨어에 대한 기본 지식을 알고 있어야 함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-284400"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보드의 초기화를 포함하여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uC/OS-II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를 위해 총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개의 함수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StartHighRdy(), OSCtxSw(), OSIntCtxSw(), OSTickISR()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로 구성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1B25B-5876-4B5C-B65D-1BA163A4685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 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762120" y="1228320"/>
            <a:ext cx="81676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한 응용 프로그램의 기본 구조 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Scheduling 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C/OS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의 디바이스 제어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15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211B1-81EF-4B46-B04D-5ADAA3D15088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5" name=""/>
          <p:cNvGraphicFramePr/>
          <p:nvPr/>
        </p:nvGraphicFramePr>
        <p:xfrm>
          <a:off x="776160" y="1438200"/>
          <a:ext cx="8088480" cy="443700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46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 empos2c</a:t>
                      </a:r>
                      <a:r>
                        <a:rPr b="1" lang="ko-KR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c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includes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serial.h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nclude "reg.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TASK_STK_SIZE     (1024 * 2)   /* Size of each task's stacks (# of WORDs) 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define  N_TASKS                  3         /* Number of identical task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k[N_TASKS][TASK_STK_SIZE];     /* Tasks stacks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_STK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Stk[TASK_STK_SIZE]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mpos_Ctrl_Task(void *data);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1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2(void *data);                             /* Function prototypes of tasks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skStart(void *data);                      /* Function prototypes of Startup task         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void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ucos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9713F-65CF-4FCF-B053-3A5B7833A61B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27" name=""/>
          <p:cNvGraphicFramePr/>
          <p:nvPr/>
        </p:nvGraphicFramePr>
        <p:xfrm>
          <a:off x="422280" y="1474920"/>
          <a:ext cx="2908440" cy="4489200"/>
        </p:xfrm>
        <a:graphic>
          <a:graphicData uri="http://schemas.openxmlformats.org/drawingml/2006/table">
            <a:tbl>
              <a:tblPr/>
              <a:tblGrid>
                <a:gridCol w="2908440"/>
              </a:tblGrid>
              <a:tr h="449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int    dev_ctl_main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g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textlc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extern void   gpioled_test(void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Start 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TaskStart] Called .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Period_Setting( 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r0_Interrupt_Setting( );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tInit(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/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Task...!!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28" name=""/>
          <p:cNvGraphicFramePr/>
          <p:nvPr/>
        </p:nvGraphicFramePr>
        <p:xfrm>
          <a:off x="3503520" y="1486080"/>
          <a:ext cx="5334120" cy="442404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44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 OS_EMPOS_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Empos_Ctrl_Task,"Empos_Ctrl_Task"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&amp;TaskStk[0][TASK_STK_SIZE - 1],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l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1,"Task1",&amp;TaskStk[0][TASK_STK_SIZE - 1], 1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2,"Task2",&amp;TaskStk[1][TASK_STK_SIZE - 1], 2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Running Task : %4d", OSTaskCtr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pu Usage : %4d", (int)OSCPUUsage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Context Switches per Sec : %4d",(int)OSCtxSwCtr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--------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CtxSwCtr = 0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HMSM(0, 0, 1, 0);    /* Wait one second 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8C7A2-B7F5-40DF-B9D2-09204A030125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0" name=""/>
          <p:cNvGraphicFramePr/>
          <p:nvPr/>
        </p:nvGraphicFramePr>
        <p:xfrm>
          <a:off x="434880" y="1438200"/>
          <a:ext cx="4186440" cy="4706640"/>
        </p:xfrm>
        <a:graphic>
          <a:graphicData uri="http://schemas.openxmlformats.org/drawingml/2006/table">
            <a:tbl>
              <a:tblPr/>
              <a:tblGrid>
                <a:gridCol w="4186440"/>
              </a:tblGrid>
              <a:tr h="470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t flag_g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Empos_Ctrl_Task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har key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(;;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while((key = dev_ctl_main()) != 0)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witch(key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1': 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2': seg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3': textlc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4': gpioled_test(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ase 'q': printf("exit\n"); break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10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1" name=""/>
          <p:cNvGraphicFramePr/>
          <p:nvPr/>
        </p:nvGraphicFramePr>
        <p:xfrm>
          <a:off x="4788000" y="1438200"/>
          <a:ext cx="3929040" cy="4710240"/>
        </p:xfrm>
        <a:graphic>
          <a:graphicData uri="http://schemas.openxmlformats.org/drawingml/2006/table">
            <a:tbl>
              <a:tblPr/>
              <a:tblGrid>
                <a:gridCol w="3929040"/>
              </a:tblGrid>
              <a:tr h="47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1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5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Task2(void *dat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{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or (;;) 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%s\n",(char *)dat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-----------------------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imeDly(20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void ucos_main(void){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[C_Entry] Called..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SerialInit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2" name=""/>
          <p:cNvSpPr/>
          <p:nvPr/>
        </p:nvSpPr>
        <p:spPr>
          <a:xfrm>
            <a:off x="739800" y="5200560"/>
            <a:ext cx="3589200" cy="9907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Empos_Ctrl_Task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는 사용자 입력을 받아 제어 디바이스를 선택할 수 있도록 한다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선택 받은 디바이스에 따라 사용자 메뉴가 디스플레이 되고 디바이스 제어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7E1C8-C867-4821-96EB-2F3188260EE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태스크의 선언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태스크의 형태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1800" y="1752480"/>
            <a:ext cx="4178160" cy="445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45200" y="1752480"/>
            <a:ext cx="3111480" cy="16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65160" y="1790640"/>
            <a:ext cx="4013280" cy="45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for( ; ;) {  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다음의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굴림"/>
              </a:rPr>
              <a:t>uC/OS-II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서비스 함수 중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     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하나를 호출한다 </a:t>
            </a:r>
            <a:r>
              <a:rPr b="1" lang="ko-KR" sz="1400" spc="-1" strike="noStrike">
                <a:solidFill>
                  <a:srgbClr val="ff0000"/>
                </a:solidFill>
                <a:latin typeface="Arial"/>
                <a:ea typeface="굴림"/>
              </a:rPr>
              <a:t>: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Mbox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Q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emPend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Suspend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(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     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imeDlyHMSM(); 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  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5600" y="1790640"/>
            <a:ext cx="30070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void MyTask(void *pdat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  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/*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사용자 코드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*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  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Del(OS_PRIO_SELF)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80040" y="3483000"/>
            <a:ext cx="186048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스스로 삭제하는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30720" y="5956200"/>
            <a:ext cx="1425600" cy="30708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무한 루프 함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5B8D9-E984-4620-B05F-6B7C1773A4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응용 프로그램의 작성 예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4" name=""/>
          <p:cNvGraphicFramePr/>
          <p:nvPr/>
        </p:nvGraphicFramePr>
        <p:xfrm>
          <a:off x="776160" y="1438200"/>
          <a:ext cx="8088480" cy="51134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511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n\nThis is EMPOS_uCOS version 1.0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This is free software, and undered GNU GPL license\n")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 ######       ##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    ##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 ##  ##     ## ##      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 ##   ##     ##  ######  #######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    ##    ##     ##   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##     ## ##    ## ##     ##     ## ##    ##          ##   ##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#######   ###### ##       #######   ######          #### ####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                                                            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      Hanback Electronics Embedded Linux System(HBE-EMPOSII)      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==================================================================\n\n");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oTes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imerInit2(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SerialInit &amp; TimerInit done ..\n"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Init(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TaskCreate(TaskStart,(void *)0,&amp;TaskStartStk[TASK_STK_SIZE - 1], 0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SStart();        /* Start multitasking */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ifdef uCOS_DEBUG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printf("\rOSStart...\n");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#endif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5" name=""/>
          <p:cNvSpPr/>
          <p:nvPr/>
        </p:nvSpPr>
        <p:spPr>
          <a:xfrm>
            <a:off x="4238640" y="4159080"/>
            <a:ext cx="4686120" cy="9464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ucos_main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함수에서 시리얼 과 타이머 등을 초기화하고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Ini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호출하여 전역변수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각종 구조체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,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를 초기화하고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IDLE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태스크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Statistic Task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생성한 후 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TaskCreate() 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호출하여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를 시작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230D-E802-4BFA-AF28-44C9975ACF7D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7" name=""/>
          <p:cNvGraphicFramePr/>
          <p:nvPr/>
        </p:nvGraphicFramePr>
        <p:xfrm>
          <a:off x="776160" y="1438200"/>
          <a:ext cx="8088480" cy="465624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46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굴림"/>
                        </a:rPr>
                        <a:t>/* Makefile *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C = arm-linux-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COPY = arm-linux-objcop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NM = arm-linux-n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DUMP = arm-linux-objdum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INCLUDE = -I./hea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LAGS = -O2 -Wall -march=armv4 -mtune=strongarm -fomit-frame-pointer -mapcs-32 -nostdinc $(INCLU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CFLAGS = -O binary -R .note -R .comment -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LDFLAGS = -static -nostdlib -Wl,-T,./header/ld-xs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OMPILE = $(CC) $(CFLAG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FILES = $(wildcard *.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SM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= $(wildcard *.asm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OBJECT = $(CFILES:%.c=%.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TARGET_IMAGE = empos_u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FD349-F2B1-48E0-9937-B21F0ECB4622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Makefile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작성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539" name=""/>
          <p:cNvGraphicFramePr/>
          <p:nvPr/>
        </p:nvGraphicFramePr>
        <p:xfrm>
          <a:off x="776160" y="1438200"/>
          <a:ext cx="8088480" cy="2903760"/>
        </p:xfrm>
        <a:graphic>
          <a:graphicData uri="http://schemas.openxmlformats.org/drawingml/2006/table">
            <a:tbl>
              <a:tblPr/>
              <a:tblGrid>
                <a:gridCol w="8088480"/>
              </a:tblGrid>
              <a:tr h="29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all : $(OB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C) $(INCLUDE) $(CFLAGS) $(LDFLAGS) -o $(TARGET_IMAGE)-elf32 $(ASM) $(OBJECT) -lgc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COPY) $(OCFLAGS) $(TARGET_IMAGE)-elf32 $(TARGET_IMAG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NM) $(TARGET_IMAGE)-elf32 &gt;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OBJDUMP) -D $(TARGET_IMAGE)-elf32 &gt; $(TARGET_IMAGE).d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.c.o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$(COMPILE) -c $&l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clean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 $(TARGET_IMAGE)-elf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$(TARGET_IMAGE).dis $(TARGET_IMAGE).m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	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rm -rf *.*.bak header/*.*.ba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76E7C-5CE8-4FB8-9F24-3165ABEAAAA0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컴파일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1322280" y="1605240"/>
            <a:ext cx="556416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ma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3" name="ucos_2" descr=""/>
          <p:cNvPicPr/>
          <p:nvPr/>
        </p:nvPicPr>
        <p:blipFill>
          <a:blip r:embed="rId1"/>
          <a:stretch/>
        </p:blipFill>
        <p:spPr>
          <a:xfrm>
            <a:off x="1328760" y="2171880"/>
            <a:ext cx="7020000" cy="365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6967-F30C-4BE4-9D35-26D6AE2D6C9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ucos_3" descr=""/>
          <p:cNvPicPr/>
          <p:nvPr/>
        </p:nvPicPr>
        <p:blipFill>
          <a:blip r:embed="rId1"/>
          <a:srcRect l="0" t="0" r="11631" b="0"/>
          <a:stretch/>
        </p:blipFill>
        <p:spPr>
          <a:xfrm>
            <a:off x="3919680" y="1979640"/>
            <a:ext cx="4073400" cy="4529160"/>
          </a:xfrm>
          <a:prstGeom prst="rect">
            <a:avLst/>
          </a:prstGeom>
          <a:ln w="0">
            <a:noFill/>
          </a:ln>
        </p:spPr>
      </p:pic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761760" y="118548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퓨징 방법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된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rnel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일을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jtag</a:t>
            </a: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해 타겟 보드로 전송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9840" y="1986480"/>
            <a:ext cx="2855880" cy="30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$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Jflash-Xscale empos_u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4E196-BF73-4EF9-AFEE-C1748E96F5EE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3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1" name="ucos_t1" descr=""/>
          <p:cNvPicPr/>
          <p:nvPr/>
        </p:nvPicPr>
        <p:blipFill>
          <a:blip r:embed="rId1"/>
          <a:srcRect l="0" t="15789" r="0" b="0"/>
          <a:stretch/>
        </p:blipFill>
        <p:spPr>
          <a:xfrm>
            <a:off x="1395360" y="1881360"/>
            <a:ext cx="6753240" cy="418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184AA-322A-4EC9-B8DD-93A66737D783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4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99"/>
              </a:solidFill>
              <a:latin typeface="Arial"/>
              <a:ea typeface="굴림"/>
            </a:endParaRPr>
          </a:p>
        </p:txBody>
      </p:sp>
      <p:sp>
        <p:nvSpPr>
          <p:cNvPr id="1554" name=""/>
          <p:cNvSpPr/>
          <p:nvPr/>
        </p:nvSpPr>
        <p:spPr>
          <a:xfrm>
            <a:off x="611280" y="5027760"/>
            <a:ext cx="7994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5" name="ucos_t2" descr=""/>
          <p:cNvPicPr/>
          <p:nvPr/>
        </p:nvPicPr>
        <p:blipFill>
          <a:blip r:embed="rId1"/>
          <a:srcRect l="0" t="0" r="31021" b="26593"/>
          <a:stretch/>
        </p:blipFill>
        <p:spPr>
          <a:xfrm>
            <a:off x="404640" y="1414440"/>
            <a:ext cx="4094280" cy="2389320"/>
          </a:xfrm>
          <a:prstGeom prst="rect">
            <a:avLst/>
          </a:prstGeom>
          <a:ln w="0">
            <a:noFill/>
          </a:ln>
        </p:spPr>
      </p:pic>
      <p:pic>
        <p:nvPicPr>
          <p:cNvPr id="1556" name="ucos_t3" descr=""/>
          <p:cNvPicPr/>
          <p:nvPr/>
        </p:nvPicPr>
        <p:blipFill>
          <a:blip r:embed="rId2"/>
          <a:srcRect l="0" t="10340" r="35664" b="3510"/>
          <a:stretch/>
        </p:blipFill>
        <p:spPr>
          <a:xfrm>
            <a:off x="4668840" y="1424160"/>
            <a:ext cx="4011480" cy="4572000"/>
          </a:xfrm>
          <a:prstGeom prst="rect">
            <a:avLst/>
          </a:prstGeom>
          <a:ln w="0">
            <a:noFill/>
          </a:ln>
        </p:spPr>
      </p:pic>
      <p:sp>
        <p:nvSpPr>
          <p:cNvPr id="1557" name=""/>
          <p:cNvSpPr/>
          <p:nvPr/>
        </p:nvSpPr>
        <p:spPr>
          <a:xfrm>
            <a:off x="821520" y="3759120"/>
            <a:ext cx="295560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uC/OS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상에서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device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제어를 위한 메뉴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5331600" y="5923080"/>
            <a:ext cx="2626920" cy="3373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‘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굴림"/>
              </a:rPr>
              <a:t>TEXT LCD TEST’ </a:t>
            </a:r>
            <a:r>
              <a:rPr b="1" lang="ko-KR" sz="1600" spc="-1" strike="noStrike">
                <a:solidFill>
                  <a:srgbClr val="0000cc"/>
                </a:solidFill>
                <a:latin typeface="Arial"/>
                <a:ea typeface="굴림"/>
              </a:rPr>
              <a:t>메뉴 선택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8CCAF-CDB4-42F4-9631-E74C7CADEFF3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801720" y="2858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  <a:ea typeface="굴림"/>
              </a:rPr>
              <a:t>uC/OS 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실행</a:t>
            </a:r>
            <a:r>
              <a:rPr b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(5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761760" y="1314000"/>
            <a:ext cx="7848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Scheduling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의 이해</a:t>
            </a:r>
            <a:endParaRPr b="1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4317840" y="1752480"/>
            <a:ext cx="4597560" cy="733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소스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ree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header/os_cfg.h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OS_EMPOS_CTRL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을 “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0”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으로 선언하면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1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2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  <a:ea typeface="굴림"/>
              </a:rPr>
              <a:t>TaskStart()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에 의해서 생성되고 다음과 같은 결과를 디스플레이</a:t>
            </a:r>
            <a:r>
              <a:rPr b="1" lang="ko-KR" sz="14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2" name="ucos_t4" descr=""/>
          <p:cNvPicPr/>
          <p:nvPr/>
        </p:nvPicPr>
        <p:blipFill>
          <a:blip r:embed="rId1"/>
          <a:srcRect l="0" t="0" r="43435" b="0"/>
          <a:stretch/>
        </p:blipFill>
        <p:spPr>
          <a:xfrm>
            <a:off x="1060560" y="1716120"/>
            <a:ext cx="3154320" cy="4545000"/>
          </a:xfrm>
          <a:prstGeom prst="rect">
            <a:avLst/>
          </a:prstGeom>
          <a:ln w="0">
            <a:noFill/>
          </a:ln>
        </p:spPr>
      </p:pic>
      <p:sp>
        <p:nvSpPr>
          <p:cNvPr id="1563" name=""/>
          <p:cNvSpPr/>
          <p:nvPr/>
        </p:nvSpPr>
        <p:spPr>
          <a:xfrm>
            <a:off x="4014720" y="2916360"/>
            <a:ext cx="4194360" cy="21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실행중인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OS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1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Task2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Statistic Task 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1560" indent="-284400">
              <a:lnSpc>
                <a:spcPct val="100000"/>
              </a:lnSpc>
              <a:spcBef>
                <a:spcPts val="451"/>
              </a:spcBef>
              <a:buClr>
                <a:srgbClr val="00cc00"/>
              </a:buClr>
              <a:buSzPct val="9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굴림"/>
              </a:rPr>
              <a:t>Idle Task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(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우선순위 </a:t>
            </a:r>
            <a:r>
              <a:rPr b="0" lang="ko-KR" sz="1800" spc="-1" strike="noStrike">
                <a:solidFill>
                  <a:srgbClr val="000099"/>
                </a:solidFill>
                <a:latin typeface="Arial"/>
                <a:ea typeface="굴림"/>
              </a:rPr>
              <a:t>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AF46C-607C-4EDC-ACDE-4E696CEFAA9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7T21:18:45Z</dcterms:created>
  <dc:creator>Yoo Sang Shin</dc:creator>
  <dc:description/>
  <dc:language>en-US</dc:language>
  <cp:lastModifiedBy>com-07</cp:lastModifiedBy>
  <cp:lastPrinted>1999-12-01T19:27:03Z</cp:lastPrinted>
  <dcterms:modified xsi:type="dcterms:W3CDTF">2004-07-30T02:52:27Z</dcterms:modified>
  <cp:revision>1358</cp:revision>
  <dc:subject/>
  <dc:title>uC/OS-II</dc:title>
</cp:coreProperties>
</file>