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5467B5-A69D-46D6-8C27-F8F492B19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749BD1-0233-4A9E-8B47-983F4F9DA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48DB46-CF6F-49A4-A98D-0438617BD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A30575-C220-4315-89E5-2172DE806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481080-56E7-413E-BB8D-1AB0D93F2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40B926-4B11-44DF-A0D9-9A2B22ADC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2052EC-972E-41F3-8F16-9402D07B7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FCC1FF-6A70-416A-A3CB-5A8122665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199307-7B72-442C-9894-4FC40FCF7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3DDCEC-69B6-47E1-AB2D-7D3811A69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5E37B8-FB1C-4650-B31B-591385BEF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8380E0-3BDC-4C08-A8F0-C2345E721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6DEC67-372D-4DED-AC74-1E04DEB4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DE155-9C37-4F81-B09B-098DD61C6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163626-F084-40B6-ACEB-6036C731F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5287AB-307F-445C-AC83-36F8A8641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E5047E-CDDD-4478-A6C6-FFE00F9B1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C77209-FAE6-42CA-84F1-6ADB551D6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77C80E-6D30-4CDD-94FF-FAE620118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DBEEAE-36E2-4844-84C2-32E23F6B4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FF086D-12CE-4D27-BC5E-890661629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FC0AE6-2793-4CFF-A16D-30D1BF648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40D448-BF7C-4A84-B5BB-3C84600F7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94EB53-66B8-4697-B426-C2FD7DF7A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E48-B98F-41D3-9689-49BFFDD7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D27-FE40-4666-A4BB-A4B73CF5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7AC-96FF-46A0-9321-256C2951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2FB-2268-4AD7-8EAC-E7FDB760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67E-7FF8-472F-8D82-92470C2B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CD31-1BB4-406D-8AB6-61A5544B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7B6F-1A4B-44A5-A31F-235A4CA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B02B-5DDF-48C4-B106-616F1D2A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578F-2464-41D9-8193-842EE7D5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F856-ABAD-4E88-85DA-05BBF4E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0BB2-43B0-4EB1-9E0F-0C02FD7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47D-F59C-44E5-9AF7-355F374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0FD6-44DD-4334-ADDC-01EE341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52E-A101-46CF-B475-FFEF646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4CD0-27C7-4341-9445-087260CB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874E-7B92-4715-BB35-32D47AD5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3104-F7C5-4CFE-9401-C3A1B7A1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3CAE-0EE5-4F5B-864D-7E4F1E64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CD6D-7ADA-4276-A0CC-AFBC96D9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D805-8650-4F75-9C6E-81503DD5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713A-A221-42D5-8CB7-3FA07CA9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E489-05A5-4352-87C7-49C0139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3A4-45CB-4915-A82C-310E0359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B79C-BF33-4916-BBC1-24AC483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9F40-0B48-4A3B-81E1-8E57A09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3A6B-DDF4-42A0-92FC-4A4499FC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68EB-3438-4AF6-8584-2E7CD35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A32B-6588-4A46-AE2D-C48809B5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0953-6B54-4DCA-B931-DDB8AFE2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2656-8B59-4D76-82DB-26D69A5D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7B8D-C2C4-4171-A058-EF0656E7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27FE-2154-4FC6-8BB4-3276446C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64CF-1B3B-4726-90DD-1EE5495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B6C-C859-4B9B-A890-4A44AD4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7104D-3077-4BF9-B79B-24232149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5FEF-C04C-4006-B9A3-436C58F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CF850-50A5-42DB-A19A-3B14DF33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17A9-365D-479B-9DB5-13FCD66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21109-EF95-4064-8EA9-F3CE8F7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23161-9A1C-47C9-ACD4-5450466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3856-BDA1-4FDE-A326-F0160ADD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47F3-9DF3-46B5-B2E1-4EB195E8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C785-1FC3-4A59-AFD9-6A0961AD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F450-2120-41A6-BC96-5E11AD74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581-6A25-47A7-BF95-867BF2F8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09BF-72E5-4790-92CE-E6814F9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4E4D-FAEF-4B94-818A-595487A2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8E13-4006-4B98-BC76-B5B69F35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21C6A-B3FF-496E-9AFB-450E370C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8261-B4A6-41D3-BD90-5FDB7B8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58BE-BB1A-433A-B346-7886A33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65CF-ED06-4C41-A753-507F99E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EDEC3-F992-48DC-B799-9F58C8BC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0DB5-502C-4A20-8A9B-EE2148E9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D608-13D9-408B-8992-50C594D5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051-FEE1-4AC8-BF4D-7AB90BCF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60C0-5A80-4506-9F42-653ED4D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7A1-DC20-486E-84CE-F430329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FFE-B210-49E8-83AB-E38AA35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468-9CF2-48BA-ABB8-1327D95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447-F740-4CBC-8814-0F0462DE3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849C-0923-41F6-82A5-04FB62F6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638-C556-4E3F-8682-C8AE01A9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86F9-A667-4608-8AB0-C74ED4455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10AD-44F3-4CEE-B239-BC264FD78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utorial of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6040" y="2492280"/>
            <a:ext cx="6183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aruaki Tamada, Ph.D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ttp://stigmata.sourceforge.jp/tutorial.pdf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Sourceforge.j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3422520" y="378936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st of extracted birthmarks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Back to ``control’’ pan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8" name="Oval 5"/>
          <p:cNvSpPr/>
          <p:nvPr/>
        </p:nvSpPr>
        <p:spPr>
          <a:xfrm>
            <a:off x="1116000" y="2060640"/>
            <a:ext cx="9144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356000" y="270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tab, then go back to ``control’’ p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8"/>
          <p:cNvCxnSpPr>
            <a:stCxn id="259" idx="0"/>
            <a:endCxn id="258" idx="6"/>
          </p:cNvCxnSpPr>
          <p:nvPr/>
        </p:nvCxnSpPr>
        <p:spPr>
          <a:xfrm flipV="1" rot="16200000">
            <a:off x="3617640" y="672480"/>
            <a:ext cx="467280" cy="360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513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Add target file into Y axi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514836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32360" y="278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 and choose targe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10"/>
          <p:cNvCxnSpPr>
            <a:stCxn id="264" idx="2"/>
            <a:endCxn id="263" idx="0"/>
          </p:cNvCxnSpPr>
          <p:nvPr/>
        </p:nvCxnSpPr>
        <p:spPr>
          <a:xfrm rot="5400000">
            <a:off x="5365080" y="3661920"/>
            <a:ext cx="996120" cy="516600"/>
          </a:xfrm>
          <a:prstGeom prst="bentConnector3">
            <a:avLst>
              <a:gd name="adj1" fmla="val 50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4068720" y="5877000"/>
            <a:ext cx="1440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788000" y="3357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round robin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6"/>
          <p:cNvCxnSpPr>
            <a:stCxn id="269" idx="2"/>
            <a:endCxn id="268" idx="0"/>
          </p:cNvCxnSpPr>
          <p:nvPr/>
        </p:nvCxnSpPr>
        <p:spPr>
          <a:xfrm rot="5400000">
            <a:off x="4871160" y="4465440"/>
            <a:ext cx="1310400" cy="1475640"/>
          </a:xfrm>
          <a:prstGeom prst="bentConnector3">
            <a:avLst>
              <a:gd name="adj1" fmla="val 50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8920" y="3645000"/>
            <a:ext cx="3835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``Save’’ button, then file save dialog is shown.  You can save those result as csv and xml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140328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6"/>
          <p:cNvCxnSpPr>
            <a:stCxn id="275" idx="2"/>
            <a:endCxn id="276" idx="0"/>
          </p:cNvCxnSpPr>
          <p:nvPr/>
        </p:nvCxnSpPr>
        <p:spPr>
          <a:xfrm rot="5400000">
            <a:off x="1397160" y="5033160"/>
            <a:ext cx="1072080" cy="146880"/>
          </a:xfrm>
          <a:prstGeom prst="bentConnector3">
            <a:avLst>
              <a:gd name="adj1" fmla="val 50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8920" y="3645000"/>
            <a:ext cx="3259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ing some cell, then opening new tab to show details of comparison 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he result of comparison pair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howing similarity distribution graph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78144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79840" y="4076640"/>
            <a:ext cx="31161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Graph’’ button, then similarity distribution graph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7"/>
          <p:cNvCxnSpPr>
            <a:stCxn id="286" idx="2"/>
            <a:endCxn id="285" idx="0"/>
          </p:cNvCxnSpPr>
          <p:nvPr/>
        </p:nvCxnSpPr>
        <p:spPr>
          <a:xfrm flipH="1">
            <a:off x="4237920" y="500184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08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imilarity distribution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Launching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48320" cy="4953240"/>
          </a:xfrm>
          <a:prstGeom prst="rect">
            <a:avLst/>
          </a:prstGeom>
          <a:ln w="0">
            <a:noFill/>
          </a:ln>
        </p:spPr>
      </p:pic>
      <p:sp>
        <p:nvSpPr>
          <p:cNvPr id="216" name="Oval 5"/>
          <p:cNvSpPr/>
          <p:nvPr/>
        </p:nvSpPr>
        <p:spPr>
          <a:xfrm>
            <a:off x="5148360" y="26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754440" y="450864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, then launch stig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7"/>
          <p:cNvCxnSpPr>
            <a:stCxn id="217" idx="0"/>
            <a:endCxn id="216" idx="4"/>
          </p:cNvCxnSpPr>
          <p:nvPr/>
        </p:nvCxnSpPr>
        <p:spPr>
          <a:xfrm flipH="1" flipV="1" rot="5400000">
            <a:off x="5133600" y="4036320"/>
            <a:ext cx="939240" cy="5400"/>
          </a:xfrm>
          <a:prstGeom prst="bentConnector3">
            <a:avLst>
              <a:gd name="adj1" fmla="val 5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80052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050920" y="3957480"/>
            <a:ext cx="441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arrow button besides of ``Graph’’ button and popup menu is shown, select ``Distance Mapping’’ menu, then distance mapping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AutoShape 6"/>
          <p:cNvCxnSpPr>
            <a:stCxn id="293" idx="2"/>
            <a:endCxn id="292" idx="0"/>
          </p:cNvCxnSpPr>
          <p:nvPr/>
        </p:nvCxnSpPr>
        <p:spPr>
          <a:xfrm flipH="1">
            <a:off x="4257000" y="5157360"/>
            <a:ext cx="108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Distance mapping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6083280" y="5661000"/>
            <a:ext cx="187344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050920" y="4149720"/>
            <a:ext cx="4608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guessed pair’’ button, showing the result of comparing birthmarks by same name pair from X and Y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6"/>
          <p:cNvCxnSpPr>
            <a:stCxn id="300" idx="3"/>
            <a:endCxn id="299" idx="0"/>
          </p:cNvCxnSpPr>
          <p:nvPr/>
        </p:nvCxnSpPr>
        <p:spPr>
          <a:xfrm>
            <a:off x="6659280" y="4613040"/>
            <a:ext cx="361080" cy="102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creensho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183528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19280" y="2781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, then file opening dialog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6"/>
          <p:cNvCxnSpPr>
            <a:stCxn id="224" idx="2"/>
            <a:endCxn id="223" idx="0"/>
          </p:cNvCxnSpPr>
          <p:nvPr/>
        </p:nvCxnSpPr>
        <p:spPr>
          <a:xfrm rot="5400000">
            <a:off x="2135160" y="3853440"/>
            <a:ext cx="721440" cy="408600"/>
          </a:xfrm>
          <a:prstGeom prst="bentConnector3">
            <a:avLst>
              <a:gd name="adj1" fmla="val 51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1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 jar fil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5000400" cy="3429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548280" y="5429160"/>
            <a:ext cx="3948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Jar file, and press open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5508720" y="51577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AutoShape 10"/>
          <p:cNvCxnSpPr>
            <a:stCxn id="229" idx="3"/>
            <a:endCxn id="230" idx="2"/>
          </p:cNvCxnSpPr>
          <p:nvPr/>
        </p:nvCxnSpPr>
        <p:spPr>
          <a:xfrm flipV="1">
            <a:off x="4505400" y="5614200"/>
            <a:ext cx="984960" cy="3960"/>
          </a:xfrm>
          <a:prstGeom prst="bentConnector3">
            <a:avLst>
              <a:gd name="adj1" fmla="val 50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Other choice method (D&amp;D)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356000" y="3375000"/>
            <a:ext cx="4535640" cy="3483000"/>
          </a:xfrm>
          <a:prstGeom prst="rect">
            <a:avLst/>
          </a:prstGeom>
          <a:ln w="0">
            <a:noFill/>
          </a:ln>
        </p:spPr>
      </p:pic>
      <p:sp>
        <p:nvSpPr>
          <p:cNvPr id="235" name="Oval 6"/>
          <p:cNvSpPr/>
          <p:nvPr/>
        </p:nvSpPr>
        <p:spPr>
          <a:xfrm>
            <a:off x="5724360" y="3500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11411400">
            <a:off x="2550240" y="1568520"/>
            <a:ext cx="3884760" cy="1727280"/>
          </a:xfrm>
          <a:custGeom>
            <a:avLst/>
            <a:gdLst>
              <a:gd name="textAreaLeft" fmla="*/ 895680 w 3884760"/>
              <a:gd name="textAreaRight" fmla="*/ 2814480 w 3884760"/>
              <a:gd name="textAreaTop" fmla="*/ 231120 h 1727280"/>
              <a:gd name="textAreaBottom" fmla="*/ 14961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-4063791"/>
                <a:lnTo>
                  <a:pt x="21427" y="4008"/>
                </a:lnTo>
                <a:lnTo>
                  <a:pt x="20275" y="0"/>
                </a:lnTo>
                <a:lnTo>
                  <a:pt x="18776" y="4008"/>
                </a:lnTo>
                <a:lnTo>
                  <a:pt x="19747" y="4008"/>
                </a:lnTo>
                <a:arcTo wR="9960" hR="21600" stAng="1336209" swAng="4007340"/>
                <a:lnTo>
                  <a:pt x="10314" y="21586"/>
                </a:lnTo>
                <a:arcTo wR="9960" hR="21600" stAng="5456451" swAng="5343549"/>
                <a:close/>
              </a:path>
              <a:path fill="darkenLess"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56451"/>
                <a:lnTo>
                  <a:pt x="10314" y="21586"/>
                </a:lnTo>
                <a:arcTo wR="9960" hR="21600" stAng="5456451" swAng="534354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6156360" y="1557360"/>
            <a:ext cx="2792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jar file and drop it into target list component, then the jar file was chosen as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ed birthmark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1116000" y="4797360"/>
            <a:ext cx="68407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622160" y="335772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ed birt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10"/>
          <p:cNvCxnSpPr>
            <a:stCxn id="241" idx="2"/>
            <a:endCxn id="240" idx="0"/>
          </p:cNvCxnSpPr>
          <p:nvPr/>
        </p:nvCxnSpPr>
        <p:spPr>
          <a:xfrm flipH="1" rot="16200000">
            <a:off x="3289320" y="3530160"/>
            <a:ext cx="1054800" cy="1442160"/>
          </a:xfrm>
          <a:prstGeom prst="bentConnector3">
            <a:avLst>
              <a:gd name="adj1" fmla="val 507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0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ion uni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5651640" y="5805360"/>
            <a:ext cx="2160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859280" y="2852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ion unit.  Default is extracting from each class file.  Other unit is extracting from package, and jar file (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9"/>
          <p:cNvCxnSpPr>
            <a:stCxn id="246" idx="2"/>
            <a:endCxn id="245" idx="0"/>
          </p:cNvCxnSpPr>
          <p:nvPr/>
        </p:nvCxnSpPr>
        <p:spPr>
          <a:xfrm flipH="1" rot="16200000">
            <a:off x="5817240" y="4871520"/>
            <a:ext cx="1469160" cy="361080"/>
          </a:xfrm>
          <a:prstGeom prst="bentConnector3">
            <a:avLst>
              <a:gd name="adj1" fmla="val 505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2700360" y="587700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76360" y="35924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extract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6"/>
          <p:cNvCxnSpPr>
            <a:stCxn id="251" idx="2"/>
            <a:endCxn id="250" idx="0"/>
          </p:cNvCxnSpPr>
          <p:nvPr/>
        </p:nvCxnSpPr>
        <p:spPr>
          <a:xfrm flipH="1" rot="16200000">
            <a:off x="2458440" y="5039280"/>
            <a:ext cx="1350000" cy="288000"/>
          </a:xfrm>
          <a:prstGeom prst="bentConnector3">
            <a:avLst>
              <a:gd name="adj1" fmla="val 505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4:39:47Z</dcterms:created>
  <dc:creator>玉田 春昭</dc:creator>
  <dc:description/>
  <dc:language>en-US</dc:language>
  <cp:lastModifiedBy> </cp:lastModifiedBy>
  <dcterms:modified xsi:type="dcterms:W3CDTF">2008-05-15T04:37:14Z</dcterms:modified>
  <cp:revision>4</cp:revision>
  <dc:subject/>
  <dc:title>Tutorial of Stigmata</dc:title>
</cp:coreProperties>
</file>