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1636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901800" y="739440"/>
            <a:ext cx="492912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898200" y="4686480"/>
            <a:ext cx="493380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937224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16360" y="937224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7B4E57-B0AB-47E5-ACA0-E58CE2962496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1038-B04F-4356-AA93-DFE418379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C561-550A-45F3-985E-8EECD7BFB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30FA-F5C0-4B31-96CF-090D0C3D3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7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8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7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8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CE6F-1BBD-4828-8242-0998114A5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5DA00-3283-48C9-93FE-55E359C56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FD983-9AC2-429A-8E56-FAD1ECDC8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B9121-8234-42A5-A580-27090CE96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EF5E1-3B38-451B-859E-D0DCD51B4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A6E7A-9924-43A4-85BE-21B41D9D6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440" y="2141640"/>
            <a:ext cx="7767720" cy="66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349C2-2B73-4777-ACB3-90005B7C2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86BD0-E11A-4D89-BCBA-25A9D6C7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506B-0181-4CC4-99F5-FDB05586B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D400E-3AA9-40F5-AF8E-7E647D8D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EF571-A158-435E-8681-D5691F04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C1EEF-FC20-49C3-9E48-544875066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171ED-BED1-4745-9F54-E795815AB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18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18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24939-AD5F-4040-8F8A-0F8A301A3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F1FA-8479-463A-87DF-06C86B717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6ABC-78A0-4D58-8A01-B5188C22B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38AE-DD97-4151-9DAB-5045C5A99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440" y="2141640"/>
            <a:ext cx="7767720" cy="66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2B95-102C-4430-A067-F3A8CDE26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9A9C-AF32-458B-A7F7-088307F1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0F27-975D-4AB6-9304-AC8AFDE8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52DB-5458-475E-8018-046E2FE9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080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172200"/>
            <a:ext cx="19004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1913B1-2772-49F8-9E35-5D8C3C2B9504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080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172200"/>
            <a:ext cx="19004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A35249B-63D6-4127-AC86-89DB9ABDBA3A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5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4056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blanco Framework</a:t>
            </a:r>
            <a:br>
              <a:rPr sz="4400"/>
            </a:b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スクリーンショット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200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7.01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いがぴょん 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伊賀 敏樹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lanco Framework 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コミッ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304920"/>
            <a:ext cx="1218960" cy="368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Times New Roman"/>
              </a:rPr>
              <a:t>公開文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696E5-8E2A-4F36-B1FC-4DCE03A218C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 EE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7632720" cy="56246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780000" y="5373720"/>
            <a:ext cx="136836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24360" y="45086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R/O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95280" y="1025640"/>
            <a:ext cx="8424720" cy="5283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 EE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高速なデータベースアクセ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ストアドプロシージャ対応あり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必要なソースコードを全て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省メモリ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大量データ件数の処理が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カーソルのスクロール方向が指定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.net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619280" y="1052640"/>
            <a:ext cx="6332400" cy="5578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447920" y="3678120"/>
            <a:ext cx="73152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941400" y="1096920"/>
            <a:ext cx="7734240" cy="55008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DotNet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51280" y="5157720"/>
            <a:ext cx="136836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11640" y="45086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R/O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204920" y="971640"/>
            <a:ext cx="6751800" cy="5619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Dot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高速なデータベースアクセ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ストアドプロシージャ対応あり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必要なソースコードを全て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省メモリ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大量データ件数の処理が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関連ツール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: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整形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前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228600" y="1947960"/>
          <a:ext cx="8686800" cy="31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47960"/>
                    <a:ext cx="8686800" cy="31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685800" y="5410080"/>
            <a:ext cx="81532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6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メニューから整形を実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関連ツール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: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整形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後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200240" y="1676520"/>
          <a:ext cx="6743520" cy="48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1676520"/>
                    <a:ext cx="674352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609480" y="5410080"/>
            <a:ext cx="815364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ﾀﾞｳﾝﾛｰﾄﾞ最多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NSI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カラー表示機能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ANSI SQL89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aa00ff"/>
                </a:solidFill>
                <a:latin typeface="Arial"/>
              </a:rPr>
              <a:t>ANSI SQL9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5500ff"/>
                </a:solidFill>
                <a:latin typeface="Arial"/>
              </a:rPr>
              <a:t>ANSI SQL99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RUNCATE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などのメジャーな 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しかし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NSI SQL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には含まれない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キーワード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00aa00"/>
                </a:solidFill>
                <a:latin typeface="Arial"/>
              </a:rPr>
              <a:t>コメント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文字列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7240" y="7293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基本パター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表計算ソフトで定義書の記入をす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プラグインのボタンを押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ソースコードが自動生成され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64D7-ED36-431C-BC6C-FC465D7576DA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オンライン・バッチ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電文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973080" y="1071720"/>
            <a:ext cx="7559640" cy="54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電文処理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92000" y="1071720"/>
            <a:ext cx="7740720" cy="54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66720" y="1187280"/>
            <a:ext cx="7794720" cy="547236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OAP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82920" y="3070080"/>
            <a:ext cx="13687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51280" y="36050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66720" y="1079640"/>
            <a:ext cx="7974000" cy="52196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Web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サービス定義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WSDL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20720" y="1079640"/>
            <a:ext cx="7559640" cy="5040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XM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スキーマ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XS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74640" y="1079640"/>
            <a:ext cx="7605720" cy="521964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39640" y="1079640"/>
            <a:ext cx="7740720" cy="54003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OAP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だれでも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b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サービス設計・製造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SDL / XML Schema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を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設定ファイル／ソースコードを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ッチ処理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08000" y="1224000"/>
            <a:ext cx="895356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定義書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CSV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9320" y="1228680"/>
            <a:ext cx="904536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11280" y="1036800"/>
            <a:ext cx="7921440" cy="53766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ッチ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BatchProcess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コマンドライン引数チェックロジックの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安心できるバッチプログラム製造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age()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XML</a:t>
            </a: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・文字列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17680" y="1108080"/>
            <a:ext cx="837540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blancoStringConverter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51280" y="324468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84360" y="1371600"/>
            <a:ext cx="8135640" cy="47214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050920" y="3646440"/>
            <a:ext cx="13687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68360" y="1022400"/>
            <a:ext cx="8280360" cy="535932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6740640" cy="557856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932040" y="1058760"/>
            <a:ext cx="7385040" cy="524988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JavaScript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Scrip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VB.NET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8281800" cy="49388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VB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7417080" cy="528768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P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PHP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7345440" cy="366732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Csv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82920" y="4078440"/>
            <a:ext cx="136836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51280" y="41083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グループ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662616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グループ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7848720" cy="46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メッセージ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68360" y="1069920"/>
            <a:ext cx="828036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リューオブジェクト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77068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数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87480" y="1154160"/>
            <a:ext cx="896904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定義書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固定長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74600" y="1646280"/>
            <a:ext cx="879480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324000" y="1838160"/>
            <a:ext cx="8532720" cy="411192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FixedLength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24360" y="242100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708360" y="3141720"/>
            <a:ext cx="46087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995640" y="4581360"/>
            <a:ext cx="46087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リソースバンドル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320760" y="1204920"/>
            <a:ext cx="864396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826920" y="2133720"/>
            <a:ext cx="7704360" cy="32004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blancoResourceBundle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08000" y="4078440"/>
            <a:ext cx="136872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51280" y="39337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848360" cy="53355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ファイル入出力 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09080" cy="272412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ロパティファイル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835280" y="3301920"/>
            <a:ext cx="676908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.properties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064360" cy="550404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ロパティファイル 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システム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サービス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4978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611280" y="1947960"/>
            <a:ext cx="8280360" cy="32814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ervice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908000" y="4078440"/>
            <a:ext cx="136872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51280" y="39337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11280" y="5300640"/>
            <a:ext cx="7993080" cy="9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41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Java</a:t>
            </a: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アプリ簡単常駐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ntTask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03320" y="1752480"/>
            <a:ext cx="8939160" cy="335304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611280" y="5300640"/>
            <a:ext cx="7993080" cy="9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41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らくらく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Ant</a:t>
            </a: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タスク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475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終わり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2057400" y="4248000"/>
            <a:ext cx="6400800" cy="17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B41DF-3390-49D8-B7FE-683D2EC654E0}" type="slidenum">
              <a:t>5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848720" cy="5580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ファイル入出力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全体的な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ドキュメントに書いたとおりのプログラムが作成でき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ドキュメントを変更したら、プログラムが自動的に変更される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ルーチンワーク的なコーディングを自動化でき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データベース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5977080" cy="55069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447920" y="3678120"/>
            <a:ext cx="73152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フラッグシップ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oshikiIga</cp:lastModifiedBy>
  <dcterms:modified xsi:type="dcterms:W3CDTF">2007-01-15T09:00:58Z</dcterms:modified>
  <cp:revision>318</cp:revision>
  <dc:subject/>
  <dc:title>blanco Framework ご紹介</dc:title>
</cp:coreProperties>
</file>