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75AA-9364-4EA6-ADA6-5890B8E5E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FD80-4AD4-458D-8047-DAD8495AC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7AC5-BAAC-4E0B-BDF1-FDE8AF26F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D41A-A5D2-4F49-AA4C-4FA15B9DC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51CE-1BCB-4F7F-823F-447ED10AB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E536-B5BA-4671-88FE-4717BC513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09F9-87A6-4CDC-8C1F-81C86FF80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2A02-C5B2-4C5E-81A2-CA7F9F87D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DBE4-5E17-4B33-AB39-D8F596BE0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91D1-D2FF-4A1E-9034-E550013FB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7BDE-AF4E-40C9-830E-EE4834C6E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7CDC-138D-4380-B5F6-F5F5409AC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477A275F-B217-4218-980F-5078A5F01340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ＭＳ Ｐゴシック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山本 耕司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自動生成アーキテクチャ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6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AFAB-C098-41F2-872A-6E078B3CA4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遭遇した問題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セルの値が読め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A68C-EFA8-4D67-B497-5E75137A7F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までは問題なし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上ではセルの値が読め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中間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XML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ファイルの中身が空っぽ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ソースコードが生成され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内部表現が変わったのが原因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なし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あり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” → “UTF-16LE”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E645-BC65-4A3A-B534-B73FF6EE61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特定の文字が文字化け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常に文字化けが発生するわけで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\u0000-\u00ff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文字だけからなるセルで発生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ASCII (Compressed) String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WorkbookSetting#getEncoding(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のエンコーディングで復元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指定がなければデフォルトエンコーディング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WorkbookSetting#setEncoding(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ISO8859_1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を指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自体の修正は必要なし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シート名の文字化けは別途対応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, "ISO8859_1")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CE76-5B19-4551-81C9-98B9AD83DF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ExcelApi blanco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パッチ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Common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同梱して配布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ourceForge.jp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てパッチ提供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cvs.sourceforge.jp/cgi-bin/viewcvs.cgi/blancofw/blancoMisc/doc/jexcelapi/#dirlis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最新のパッチは、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xl-2.6.2blanco4.patch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E337-520E-46C0-B8EB-890A7FEBB8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lanco JExcelApi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メーリングリスト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fw-jexcelapi M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lists.sourceforge.jp/mailman/listinfo/blancofw-jexcelapi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 ML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、ユーザ数最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ほとんど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2EAE-CAB2-43F1-A23D-FA43568B41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 ML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よろしく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も ・・・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3-16T05:48:00Z</dcterms:modified>
  <cp:revision>217</cp:revision>
  <dc:subject/>
  <dc:title>blanco Framework　システム構成</dc:title>
</cp:coreProperties>
</file>