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1636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901800" y="739440"/>
            <a:ext cx="492912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898200" y="4686480"/>
            <a:ext cx="493380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937224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16360" y="937224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1051BD-6257-4276-88F0-9BDE8EFAD9EC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B7BE-3295-47DC-919F-17D1931A2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BA37-B078-40A0-9F43-706D9E212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6407-E4ED-4D9F-897F-C50760FCF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7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8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7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8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8D89-4C2E-452E-A680-0EA608687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ABB9B-DA24-4CE7-9EDB-AC0FD7D36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CDEA4-73A2-484D-B323-76A5E05C8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807AC-D7C9-4140-A0FD-D1B9D75CC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8104C-6140-47B1-B7A2-FD480A769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E4384-AEF8-41C9-ADF3-741E30F49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440" y="2141640"/>
            <a:ext cx="7767720" cy="66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0E9A1-DA39-446F-B17B-F3CC4CB38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DF8F3-8926-42B1-A161-E55FD227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6D91-FBFA-41EA-9BA0-E071FF22C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CF12C-656B-4C33-824F-B32CA936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FFA2F-78CA-429A-B59F-24AD6B65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BFA5B-9356-44C6-BBCC-FE18ADABD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B704D-6B52-4896-A422-A92D953BC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8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8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B503B-1085-4E10-9A2B-CCE4ABB16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B3B8-34F4-4EA1-B24F-CDE227AF3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80CE-06F3-4B99-920F-548E52E27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BCEE-29F2-4E2C-BAD5-43AE787DB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440" y="2141640"/>
            <a:ext cx="7767720" cy="66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917B-96F6-4E03-9F11-AB4D16DE3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056C-DE8F-4CA2-B8B7-25019643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F6D1-F970-4760-BD35-4A4AB050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B004-46AA-4903-ABF7-DD3B47DF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080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172200"/>
            <a:ext cx="19004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EE2A32-93E0-4E09-A196-67D38FC74B4B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080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172200"/>
            <a:ext cx="19004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7B3EBB1-0F11-4C19-87FA-F65A079509BB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4056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blanco Framework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ご紹介 </a:t>
            </a:r>
            <a:br>
              <a:rPr sz="4400"/>
            </a:b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            </a:t>
            </a: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OSC2006 Tokyo/Fal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版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2006.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.2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いがぴょん 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伊賀 敏樹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lanco Framework 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コミッ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04920"/>
            <a:ext cx="1218960" cy="368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Times New Roman"/>
              </a:rPr>
              <a:t>公開文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D8101-9F54-414D-8225-8619E6DD26F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データベース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5977080" cy="55069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447920" y="3678120"/>
            <a:ext cx="73152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フラッグシップ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 EE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632720" cy="56246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780000" y="5373720"/>
            <a:ext cx="136836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24360" y="45086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/O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95280" y="1025640"/>
            <a:ext cx="8424720" cy="5283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 EE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高速なデータベースアクセ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ストアドプロシージャ対応あり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必要なソースコードを全て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省メモリ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大量データ件数の処理が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カーソルのスクロール方向が指定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.net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619280" y="1052640"/>
            <a:ext cx="6332400" cy="55782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447920" y="3678120"/>
            <a:ext cx="73152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NET</a:t>
            </a: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有マス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41400" y="1096920"/>
            <a:ext cx="7734240" cy="55008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DotNet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51280" y="5157720"/>
            <a:ext cx="136836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11640" y="45086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/O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204920" y="971640"/>
            <a:ext cx="6751800" cy="5619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Dot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高速なデータベースアクセ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ストアドプロシージャ対応あり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必要なソースコードを全て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省メモリ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大量データ件数の処理が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関連ツール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: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整形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前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28600" y="1947960"/>
          <a:ext cx="8686800" cy="31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47960"/>
                    <a:ext cx="8686800" cy="31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685800" y="5410080"/>
            <a:ext cx="81532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6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メニューから整形を実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発表者自己紹介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7848720" cy="555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E67D-9186-4738-B5B5-B390D2226F05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関連ツール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: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整形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後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200240" y="1676520"/>
          <a:ext cx="6743520" cy="48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1676520"/>
                    <a:ext cx="674352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609480" y="5410080"/>
            <a:ext cx="815364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ﾀﾞｳﾝﾛｰﾄﾞ最多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NSI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カラー表示機能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ANSI SQL8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aa00ff"/>
                </a:solidFill>
                <a:latin typeface="Arial"/>
              </a:rPr>
              <a:t>ANSI SQL9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5500ff"/>
                </a:solidFill>
                <a:latin typeface="Arial"/>
              </a:rPr>
              <a:t>ANSI SQL9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RUNCATE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などのメジャーな 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しかし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NSI SQL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には含まれない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キーワード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00aa00"/>
                </a:solidFill>
                <a:latin typeface="Arial"/>
              </a:rPr>
              <a:t>コメント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文字列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オンライン・バッチ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電文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973080" y="1071720"/>
            <a:ext cx="7559640" cy="54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電文処理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92000" y="1071720"/>
            <a:ext cx="7740720" cy="54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66720" y="1187280"/>
            <a:ext cx="7794720" cy="54723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OAP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282920" y="3070080"/>
            <a:ext cx="13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51280" y="36050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66720" y="1079640"/>
            <a:ext cx="7974000" cy="52196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Web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サービス定義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WSDL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20720" y="1079640"/>
            <a:ext cx="7559640" cy="50400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XM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スキーマ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XS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74640" y="1079640"/>
            <a:ext cx="7605720" cy="52196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39640" y="1079640"/>
            <a:ext cx="7740720" cy="540036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7240" y="7293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blanco Framework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とは何か？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2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オープンソースの下流開発フレームワーク</a:t>
            </a:r>
            <a:br>
              <a:rPr sz="3200"/>
            </a:b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ライセンス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GNU LGP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xcel(*.xls)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ファイル形式の様式を中心とした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Java / C#.NET / JavaScript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ソースコード自動生成に対応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数十人月から数千人月規模のプロジェクトで適用実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F6B1-62C3-4D1E-AB9A-F239797813E5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OAP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だれでも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b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サービス設計・製造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SDL / XML Schema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を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設定ファイル／ソースコードを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ッチ処理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08000" y="1224000"/>
            <a:ext cx="895356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11280" y="1036800"/>
            <a:ext cx="7921440" cy="53766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ッチ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BatchProcess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コマンドライン引数チェックロジックの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安心できるバッチプログラム製造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age()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XML</a:t>
            </a: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・文字列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17680" y="1108080"/>
            <a:ext cx="837540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7272360" cy="364176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blancoStringConverter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50920" y="3141720"/>
            <a:ext cx="13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51280" y="324468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68360" y="1022400"/>
            <a:ext cx="8280360" cy="53593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6740640" cy="557856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932040" y="1058760"/>
            <a:ext cx="7385040" cy="524988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JavaScript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Scrip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7240" y="7293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基本パター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表計算ソフトで定義書の記入をす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プラグインのボタンを押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ソースコードが自動生成され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692E-49F6-40EA-9891-BD8AE606E207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グループ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662616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グループ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7848720" cy="46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メッセージ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68360" y="1069920"/>
            <a:ext cx="828036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リューオブジェクト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77068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数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7480" y="1154160"/>
            <a:ext cx="896904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定義書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固定長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74600" y="1646280"/>
            <a:ext cx="879480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24000" y="1838160"/>
            <a:ext cx="8532720" cy="41119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FixedLength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24360" y="242100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708360" y="3141720"/>
            <a:ext cx="46087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95640" y="4581360"/>
            <a:ext cx="46087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リソースバンドル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320760" y="1204920"/>
            <a:ext cx="864396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826920" y="2133720"/>
            <a:ext cx="7704360" cy="32004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blancoResourceBundle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908000" y="4078440"/>
            <a:ext cx="136872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51280" y="39337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定義書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CSV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9320" y="1228680"/>
            <a:ext cx="904536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09080" cy="2724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ロパティファイル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35280" y="3301920"/>
            <a:ext cx="676908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.properties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064360" cy="550404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ロパティファイル 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システム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サービス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4978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611280" y="1947960"/>
            <a:ext cx="8280360" cy="328140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ervice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08000" y="4078440"/>
            <a:ext cx="136872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51280" y="39337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11280" y="5300640"/>
            <a:ext cx="7993080" cy="9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41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Java</a:t>
            </a: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アプリ簡単常駐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ntTask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03320" y="1752480"/>
            <a:ext cx="8939160" cy="335304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11280" y="5300640"/>
            <a:ext cx="7993080" cy="9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41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らくらく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Ant</a:t>
            </a: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タスク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第二世代ソースコード自動生成は、</a:t>
            </a:r>
            <a:br>
              <a:rPr sz="4000"/>
            </a:b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複数プログラミング言語対応！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次は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B.NET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対応という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イノベーションは</a:t>
            </a:r>
            <a:br>
              <a:rPr sz="4400"/>
            </a:b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　　オープンソースから！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生産性・保守性・品質を劇的向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 Framework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をよろしく！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70400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475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終わり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2057400" y="4248000"/>
            <a:ext cx="6400800" cy="17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2CB41-7D07-42DF-A4EC-A57A9E70DECE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7345440" cy="36673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Csv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482920" y="4078440"/>
            <a:ext cx="136836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51280" y="41083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848360" cy="53355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ファイル入出力 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848720" cy="5580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ファイル入出力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全体的な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ドキュメントに書いたとおりのプログラムが作成でき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ドキュメントを変更したら、プログラムが自動的に変更される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ルーチンワーク的なコーディングを自動化でき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do</cp:lastModifiedBy>
  <dcterms:modified xsi:type="dcterms:W3CDTF">2006-10-28T00:39:31Z</dcterms:modified>
  <cp:revision>298</cp:revision>
  <dc:subject/>
  <dc:title>blanco Framework ご紹介</dc:title>
</cp:coreProperties>
</file>