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7CF3B-7749-48C9-B2C9-F15679A48B8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884-05E1-4C07-938D-7550DDB9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35C-B8F3-452F-8B28-560BC4B6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B13-047D-4576-AB78-9004B6CE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FDC-10C4-4BC0-84DE-E27B0649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8AA3-DE8D-4D89-87F9-659FCA01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E80C-0C09-43D9-90BA-20FCE1B6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0BE0-09D4-4AF1-ADBD-1F4F9600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9ED8-EA89-4CCE-9B29-CCE806AF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776D-A6F0-47C8-A936-F40795BF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5B85-3B1E-4864-A65F-987C3B9C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50B8-E14C-4664-A709-9990172B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AED-8A93-4A40-B8EB-C33D0E23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2A01-C28C-4795-ACD6-EE853B5F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1FCA-1EDD-40E8-804A-B22B7A5A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119D-33B1-4EF6-8C5D-161B1111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8C03-C2ED-4C8D-BDDE-0E461DBA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DCA4-A2E3-4568-9EA9-8BECFEB7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56F3-EF94-43B8-A9EB-CB7DE826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692-7887-4A48-8626-C7E6932A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BC4-1673-44E8-9766-C407882A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21C-3FAF-4A73-8D73-2290026B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0FA-67FD-478F-9537-6770CBFA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6CC-FFB1-4761-B34E-2A68AAC6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3F9-C6C8-415D-B67F-5F1FE141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CD113-EA1F-426D-9B2A-1699A557E432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F574CB1-80ED-435D-87E9-AD84986BD1BE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CD05-0C1D-47D3-9908-FFC151C03FA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0F1-2723-487B-A693-020CAD4E931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9E5-DA67-4CCB-AA79-84942CB7139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５プログラミング言語に対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新たに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 ,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#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Scri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は多プログラミング言語対応時代に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B98-1177-43F1-8428-2E8CAF0AB1B7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65B3-4748-4F4B-99B2-7B5CAD2EB487}" type="slidenum">
              <a:t>62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6:35:53Z</dcterms:modified>
  <cp:revision>313</cp:revision>
  <dc:subject/>
  <dc:title>blanco Framework ご紹介</dc:title>
</cp:coreProperties>
</file>