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165-EAC5-4BB6-BA42-4DA5D036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23B-2E20-4A03-AEA5-5CE119FB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A10-5CA9-45F1-B551-C6595297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C38-6432-4EFB-813D-791D55EF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012-EB20-43C1-A318-536DE2C5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907-8E20-43DB-9072-D33CE8DA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15F-7ACB-472B-9FD7-2E555213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D4F-9203-4D46-A774-E71E9145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0F7-98D1-420C-8DF8-87DBC3EB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DF8-0478-47A0-829F-73C4A9E1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80D-328B-4176-A927-EAA507B6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925-4CF2-43D7-8BAA-60254BA1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08D9-43F0-4EFF-9584-6AFCDC681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16360" y="4941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動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DA0-1A95-4590-AEF9-80FCC0B9D4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5:57Z</dcterms:modified>
  <cp:revision>219</cp:revision>
  <dc:subject/>
  <dc:title>blanco Framework　システム構成</dc:title>
</cp:coreProperties>
</file>