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96666-4140-4EEC-A55B-EC160891F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34407-3A8D-4091-A07C-C642B6BF0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EB947-0500-4E26-AC01-B7A25BDC8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A3FE2-8ECF-491B-9C70-8933A0156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10F38-9CE7-408E-9C13-2E7843845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2ABCE-E1DD-406B-8D4B-A55C209AA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89E4C-FBEE-48CC-9D3C-D010D2830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46EF1-3163-49AC-A396-93E066B56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81548-7B28-47AC-A4D1-E88FBD717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79ED2-9340-428C-9A32-76490BC0D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8F2BC-EE22-484A-BF28-AAF89C563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63750-E4D3-4996-820A-2F70A94EF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406A7-8293-4B9A-AC06-D745B7FFD8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19200" y="1400040"/>
          <a:ext cx="6105600" cy="405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9200" y="1400040"/>
                    <a:ext cx="610560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3:31Z</dcterms:created>
  <dc:creator>Oliver Craemer</dc:creator>
  <dc:description/>
  <dc:language>en-US</dc:language>
  <cp:lastModifiedBy>Oliver Craemer</cp:lastModifiedBy>
  <dcterms:modified xsi:type="dcterms:W3CDTF">2005-01-06T09:23:42Z</dcterms:modified>
  <cp:revision>1</cp:revision>
  <dc:subject/>
  <dc:title>Slide 1</dc:title>
</cp:coreProperties>
</file>